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5.wmf" ContentType="image/x-wmf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2.wmf" ContentType="image/x-wmf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2.png" ContentType="image/png"/>
  <Override PartName="/ppt/media/whoosh.wav" ContentType="audio/x-wav"/>
  <Override PartName="/ppt/media/image9.jpeg" ContentType="image/jpeg"/>
  <Override PartName="/ppt/media/image2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69B19-FEA3-4FB5-A587-B6C24B0C5FB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ES AND ANGLES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MAN PU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ASS IX-”A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LL NO -2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S AND ANGL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N PU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 IX-”A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 NO -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pplementary Angles/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ear Pai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angles that form a line (sum=180)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+6=18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+8=18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+7=18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+5=18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+2=18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+4=18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+3=18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+1=18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lementary Angles/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ar P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angles that form a line (sum=180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+6=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+8=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+7=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+5=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+2=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+4=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+3=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+1=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pplementary Angles/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ear Pai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nd the measures of the missing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2 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8 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8 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80 - 7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lementary Angles/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ar P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measures of the missing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2 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8 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8 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0 - 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rresponding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angles that occupy corresponding posi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p Lef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p Lef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p Righ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p Righ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ttom Righ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ttom Righ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ttom Lef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ttom Lef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 =  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 = 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 =  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=  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sponding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angles that occupy corresponding pos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tom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tom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tom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tom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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=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= 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= 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rresponding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nd the measures of the missing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45 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5 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45 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sponding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measures of the missing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5 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5 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5 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nate Interior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angles that lie between parallel lines on opposite sides of the transvers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 =  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=  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ernate Interior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angles that lie between parallel lines on opposite sides of the transvers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= 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= 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nate Interior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nd the measures of the missing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2 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8 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2 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ernate Interior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measures of the missing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2 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8 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2 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nate Exterior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angles that lie outside parallel lines on opposite sides of the transvers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 =  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 =  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ernate Exterior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angles that lie outside parallel lines on opposite sides of the transvers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= 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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nate Exterior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nd the measures of the missing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20 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0 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20 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ernate Exterior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measures of the missing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0 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 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0 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ecutive Interior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angles that lie between parallel lines on the same sides of the transvers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 +5 = 18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+6 = 18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ecutive Interior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angles that lie between parallel lines on the same sides of the transvers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+5 = 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+6 = 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ecutive Interior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nd the measures of the missing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5 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5 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80 - 13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ecutive Interior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measures of the missing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5 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5 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0 - 1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ALLEL LIN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f: line that do not intersec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llustration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ation:       l || m                   AB || C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: line that do not inters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lustra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ation:       l || m                   AB || 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 YOU 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 YOU  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ANK YOU 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ANK YOU  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s of Parallel Lin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rdwood Flo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posite sides of windows, desks,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king slots in parking lo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allel Park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Parallel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wood Fl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site sides of windows, desk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king slots in parking l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 Pa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s of Parallel Lin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E 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E 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RE LINE A and LINE B Are PARALL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Parallel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LINE A and LINE B Are PARALL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PENDICULAR LIN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f: Lines that intersect to form a right ang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llustration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ation: m  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ey Fact: 4 right angles are formed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PENDICULAR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: Lines that intersect to form a right 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lustr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ation: m  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Fact: 4 right angles are form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. of Perpendicular Lin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ndow panes : The Window Panes ar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PENDICULAR to each ot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. of Perpendicular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 panes : The Window Panes 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PENDICULAR to each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vers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f: a line that intersects two lines at different poi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llustration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vers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: a line that intersects two lines at different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lustr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ertical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angles that are opposite angl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 =  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 = 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 =  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 =  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tical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angles that are opposite ang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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= 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= 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= 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ertical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nd the measures of the missing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25 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5 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5 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25 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tical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measures of the missing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5 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 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 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5 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0B8A-0B90-4D71-98ED-D1D022E15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648C-8E9C-4961-AC04-52A02CA73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8688-8D46-44B0-A660-32C25DD79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83DD-9A93-4620-95A5-33035F7EF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2E7A0-742F-47B7-BD06-6016D4D84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4B5F6-5721-4AA6-B31E-2A7087D7A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986C0-01C9-4045-ACA5-B1E71DCBF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63B2B-993D-41AC-BAC9-8F45E1088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24AAE-7C5F-4BD4-B0BE-B5692BCC1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0D493-E744-4B13-9BD9-7DF45CA8D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03965-B1FB-48F9-9375-08E6FA367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6565-0E64-4732-99A2-63F98663E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EC8FB-193D-4656-BF5C-AEB0FA64B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A0E20-48C5-48B6-B903-00C3A8F2F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122B5-FAE1-4358-BAE4-3C9C44405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26E7F-5D04-41BE-9781-57A86815A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6347D-DDFD-4592-B567-F1DA6270D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646AD-0D7B-4CB6-B8CC-E341B4700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67D5E-0BB7-43FB-A118-F603AAD02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0DFE7-D672-444C-B54B-578FDF7D9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329A2-8237-4B6B-BD14-70467F827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AE4EF-FBC1-4B5B-829B-39A60BF72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862D-3F38-4E26-8C09-0C5627BDC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B0ECE-F017-4710-8E99-C8E7D460E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DAEAE-9B8A-47D5-9FD2-998C5BE5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92317-D784-4401-9F22-6E0F6FD3D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B1E9D-C9F5-46AF-A293-A73DD266D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4289F-6D74-4DC6-94E7-667D471E8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127DB-7D10-4EF9-AA8D-2B4454C97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04147-CB85-4386-AA37-3EFEB2F33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7F054-3C3C-42E6-A6EC-377AF17F9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BD9A3-268E-4441-AB0C-93B76994B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BAC08-6810-4A1A-B0CC-31BD5BA5F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898C-1FC6-4CC3-BD39-C76D02B56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B77EE-F5F6-4100-9813-D02E23A22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D982A-3AC9-4517-A9B4-EBC51001E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724FF-BBDC-46D7-BB3B-95C879575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B2380-C6A8-4269-809E-D98D138EC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097E6-C176-4E74-A8AA-0C303DF7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FBBA5-1790-4910-B388-ECC3A96D0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53B1B-8361-4222-8CA7-4BAAA46B3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7197D-8712-4AD9-8FD1-A0987D376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860E8-9B18-456C-AE37-71F7663E3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D057F9-206D-4AA0-9E05-8BDE42430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9E40-A265-4EF1-9FDD-EAAAA0901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5FD7DF-5CFA-4A7E-80DA-05FF98085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F7BA48-C4DE-4B78-AC02-81C9801F8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5A25FC-6AF9-4818-A537-19741387B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16DC18-D740-4591-BA91-5D1624B6C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D39797-F4ED-4102-AAD4-1769B0AD7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1F4FA5-5856-4004-8D25-EB78731F7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E5C112-9CED-46A7-8F1B-45FC8A0E6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766F18-9EB0-4C12-8E5A-FEC53E0F4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191724-7AFA-4AAF-A8D4-D71A95EB9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7C3725-8DA5-4902-9CA2-44AEF741F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22C6-A49C-4158-BDD8-C0AA8F8C1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8F6D8A-C1A6-4202-B975-F76A10924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7F508D-DFD3-4B70-86AC-3C9620443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CF094F-F815-4D2A-AFB8-C3D19EB09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C63263-21EA-4F40-85BC-E4A0A5C5E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DE8947-38C8-4962-9E8F-9BDF609DA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D279FF-79FD-4E0B-A387-6FAFCCBA6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5849AF-0890-48F1-AE42-A103BD442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B08A9B-8436-453F-93A6-0E4B0D322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67E763-D994-44C9-A636-F6FDAC069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650FDB-A240-4141-BB9A-514F0F84A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87C5-A99A-4089-A67F-9D83B586F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3EF976-B9D0-48E0-8F90-D47B5EB53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B006F1-1CF0-4C0A-A6D4-433769621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900580-2C25-4BFC-9CC7-BCF573E5C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7C33D8-040D-44D5-B8C7-505CBBAA5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9BFD49-4312-48D1-B366-2D0A36787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3C507A-D22B-4E59-9C6E-B861FA383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8F970E-48BB-4C3A-9392-81DCF3B26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0BAF50-901A-4289-B1AD-172971105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5A2AF0-B020-472F-A4D3-5A1931BFA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5991E3-0BD1-4E96-87CE-0D6D44572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486C-0A92-46D2-BE55-4A64447BF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4DE1EB-1896-4F0F-A421-9EF3A401D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C2BD7D-5B99-4C2C-B7D0-7246ED707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313F2E-EAD7-4B78-AE29-9929D837E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1BFA36-BB2A-4F73-ADC9-1539CAD0F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21D609-12CE-43D9-BE0F-54A6C868B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DBB5-9216-449A-93CC-990CF6347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A062D-346A-4160-BB14-0786995550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57924-E4D7-4714-BE35-BC507E653DD3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2BD6A-DB75-4AB8-8FD8-ABCA37D352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4FB76-EDA2-44D7-B345-BFFB463E6F4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BFD8D-D295-44EB-BD04-21905196F6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4D0CE-215B-4C7E-B221-47443108611E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49472-4556-49DC-A5F0-33A45645872E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Rectangle 2" descr=""/>
          <p:cNvPicPr/>
          <p:nvPr/>
        </p:nvPicPr>
        <p:blipFill>
          <a:blip r:embed="rId1"/>
          <a:stretch/>
        </p:blipFill>
        <p:spPr>
          <a:xfrm>
            <a:off x="689040" y="549360"/>
            <a:ext cx="8418600" cy="3662280"/>
          </a:xfrm>
          <a:prstGeom prst="rect">
            <a:avLst/>
          </a:prstGeom>
          <a:ln w="0">
            <a:noFill/>
          </a:ln>
        </p:spPr>
      </p:pic>
      <p:pic>
        <p:nvPicPr>
          <p:cNvPr id="309" name="Rectangle 3" descr=""/>
          <p:cNvPicPr/>
          <p:nvPr/>
        </p:nvPicPr>
        <p:blipFill>
          <a:blip r:embed="rId2"/>
          <a:stretch/>
        </p:blipFill>
        <p:spPr>
          <a:xfrm>
            <a:off x="1755720" y="4346640"/>
            <a:ext cx="7473960" cy="27432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C:\Program Files (x86)\Microsoft Office\MEDIA\CAGCAT10\j0299125.wmf"/>
          <p:cNvPicPr/>
          <p:nvPr/>
        </p:nvPicPr>
        <p:blipFill>
          <a:blip r:embed="rId3"/>
          <a:stretch/>
        </p:blipFill>
        <p:spPr>
          <a:xfrm>
            <a:off x="743040" y="1371600"/>
            <a:ext cx="1866960" cy="50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20"/>
          <p:cNvSpPr/>
          <p:nvPr/>
        </p:nvSpPr>
        <p:spPr>
          <a:xfrm>
            <a:off x="4191120" y="3429000"/>
            <a:ext cx="99036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8" name="Rectangle 2" descr=""/>
          <p:cNvPicPr/>
          <p:nvPr/>
        </p:nvPicPr>
        <p:blipFill>
          <a:blip r:embed="rId1"/>
          <a:stretch/>
        </p:blipFill>
        <p:spPr>
          <a:xfrm>
            <a:off x="457200" y="171360"/>
            <a:ext cx="8229600" cy="171288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wo angles that form a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line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(sum=180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)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410" name="Group 18"/>
          <p:cNvGrpSpPr/>
          <p:nvPr/>
        </p:nvGrpSpPr>
        <p:grpSpPr>
          <a:xfrm>
            <a:off x="2819520" y="2514600"/>
            <a:ext cx="3276000" cy="3472920"/>
            <a:chOff x="2819520" y="2514600"/>
            <a:chExt cx="3276000" cy="3472920"/>
          </a:xfrm>
        </p:grpSpPr>
        <p:sp>
          <p:nvSpPr>
            <p:cNvPr id="411" name="AutoShape 4"/>
            <p:cNvSpPr/>
            <p:nvPr/>
          </p:nvSpPr>
          <p:spPr>
            <a:xfrm>
              <a:off x="2819520" y="2815920"/>
              <a:ext cx="3200040" cy="31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Line 5"/>
            <p:cNvSpPr/>
            <p:nvPr/>
          </p:nvSpPr>
          <p:spPr>
            <a:xfrm flipH="1">
              <a:off x="4241160" y="2815920"/>
              <a:ext cx="639720" cy="3171600"/>
            </a:xfrm>
            <a:prstGeom prst="line">
              <a:avLst/>
            </a:prstGeom>
            <a:ln w="38160">
              <a:solidFill>
                <a:srgbClr val="e4005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Line 6"/>
            <p:cNvSpPr/>
            <p:nvPr/>
          </p:nvSpPr>
          <p:spPr>
            <a:xfrm>
              <a:off x="2895480" y="3882600"/>
              <a:ext cx="3123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Text Box 7"/>
            <p:cNvSpPr/>
            <p:nvPr/>
          </p:nvSpPr>
          <p:spPr>
            <a:xfrm>
              <a:off x="4359240" y="3427200"/>
              <a:ext cx="593280" cy="60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Text Box 8"/>
            <p:cNvSpPr/>
            <p:nvPr/>
          </p:nvSpPr>
          <p:spPr>
            <a:xfrm>
              <a:off x="4752720" y="3427200"/>
              <a:ext cx="591840" cy="60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Text Box 9"/>
            <p:cNvSpPr/>
            <p:nvPr/>
          </p:nvSpPr>
          <p:spPr>
            <a:xfrm>
              <a:off x="4267080" y="3885840"/>
              <a:ext cx="59328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Text Box 10"/>
            <p:cNvSpPr/>
            <p:nvPr/>
          </p:nvSpPr>
          <p:spPr>
            <a:xfrm>
              <a:off x="4647960" y="3882600"/>
              <a:ext cx="59364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Text Box 11"/>
            <p:cNvSpPr/>
            <p:nvPr/>
          </p:nvSpPr>
          <p:spPr>
            <a:xfrm>
              <a:off x="4130640" y="4419360"/>
              <a:ext cx="59328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Text Box 12"/>
            <p:cNvSpPr/>
            <p:nvPr/>
          </p:nvSpPr>
          <p:spPr>
            <a:xfrm>
              <a:off x="4572000" y="4416120"/>
              <a:ext cx="59328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Text Box 13"/>
            <p:cNvSpPr/>
            <p:nvPr/>
          </p:nvSpPr>
          <p:spPr>
            <a:xfrm>
              <a:off x="4038480" y="4873320"/>
              <a:ext cx="59184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Text Box 14"/>
            <p:cNvSpPr/>
            <p:nvPr/>
          </p:nvSpPr>
          <p:spPr>
            <a:xfrm>
              <a:off x="4435200" y="4873320"/>
              <a:ext cx="59364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Line 15"/>
            <p:cNvSpPr/>
            <p:nvPr/>
          </p:nvSpPr>
          <p:spPr>
            <a:xfrm>
              <a:off x="2971800" y="4797000"/>
              <a:ext cx="3123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Text Box 16"/>
            <p:cNvSpPr/>
            <p:nvPr/>
          </p:nvSpPr>
          <p:spPr>
            <a:xfrm>
              <a:off x="4877640" y="25146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e40059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4" name="Text Box 17"/>
          <p:cNvSpPr/>
          <p:nvPr/>
        </p:nvSpPr>
        <p:spPr>
          <a:xfrm>
            <a:off x="5943600" y="2819520"/>
            <a:ext cx="32004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5+</a:t>
            </a: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6=18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6+</a:t>
            </a: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8=18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8+</a:t>
            </a: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7=18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7+</a:t>
            </a: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5=18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Text Box 19"/>
          <p:cNvSpPr/>
          <p:nvPr/>
        </p:nvSpPr>
        <p:spPr>
          <a:xfrm>
            <a:off x="76320" y="2819520"/>
            <a:ext cx="32004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+</a:t>
            </a: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=18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+</a:t>
            </a: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=18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+</a:t>
            </a: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=18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+</a:t>
            </a: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=18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Rectangle 3" descr=""/>
          <p:cNvPicPr/>
          <p:nvPr/>
        </p:nvPicPr>
        <p:blipFill>
          <a:blip r:embed="rId1"/>
          <a:stretch/>
        </p:blipFill>
        <p:spPr>
          <a:xfrm>
            <a:off x="457200" y="171360"/>
            <a:ext cx="8229600" cy="171288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d the measures of the missing angl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8" name="AutoShape 6"/>
          <p:cNvSpPr/>
          <p:nvPr/>
        </p:nvSpPr>
        <p:spPr>
          <a:xfrm>
            <a:off x="1828800" y="2816280"/>
            <a:ext cx="3200400" cy="31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Line 7"/>
          <p:cNvSpPr/>
          <p:nvPr/>
        </p:nvSpPr>
        <p:spPr>
          <a:xfrm flipH="1">
            <a:off x="3250800" y="2816280"/>
            <a:ext cx="639720" cy="3171600"/>
          </a:xfrm>
          <a:prstGeom prst="line">
            <a:avLst/>
          </a:prstGeom>
          <a:ln w="38160">
            <a:solidFill>
              <a:srgbClr val="e4005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Line 8"/>
          <p:cNvSpPr/>
          <p:nvPr/>
        </p:nvSpPr>
        <p:spPr>
          <a:xfrm>
            <a:off x="1905120" y="3882960"/>
            <a:ext cx="312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Text Box 9"/>
          <p:cNvSpPr/>
          <p:nvPr/>
        </p:nvSpPr>
        <p:spPr>
          <a:xfrm>
            <a:off x="3368520" y="3427560"/>
            <a:ext cx="5940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Text Box 10"/>
          <p:cNvSpPr/>
          <p:nvPr/>
        </p:nvSpPr>
        <p:spPr>
          <a:xfrm>
            <a:off x="3733920" y="3505320"/>
            <a:ext cx="8096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72 </a:t>
            </a:r>
            <a:r>
              <a:rPr b="1" lang="en-US" sz="1800" spc="-1" strike="noStrike">
                <a:solidFill>
                  <a:srgbClr val="cc0066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Text Box 12"/>
          <p:cNvSpPr/>
          <p:nvPr/>
        </p:nvSpPr>
        <p:spPr>
          <a:xfrm>
            <a:off x="3657600" y="3882960"/>
            <a:ext cx="593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Line 17"/>
          <p:cNvSpPr/>
          <p:nvPr/>
        </p:nvSpPr>
        <p:spPr>
          <a:xfrm>
            <a:off x="1981080" y="4797360"/>
            <a:ext cx="3124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Text Box 18"/>
          <p:cNvSpPr/>
          <p:nvPr/>
        </p:nvSpPr>
        <p:spPr>
          <a:xfrm>
            <a:off x="3887640" y="25146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40059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 Box 21"/>
          <p:cNvSpPr/>
          <p:nvPr/>
        </p:nvSpPr>
        <p:spPr>
          <a:xfrm>
            <a:off x="3000240" y="3505320"/>
            <a:ext cx="8096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108 </a:t>
            </a:r>
            <a:r>
              <a:rPr b="1" lang="en-US" sz="1800" spc="-1" strike="noStrike">
                <a:solidFill>
                  <a:srgbClr val="cc0066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Text Box 23"/>
          <p:cNvSpPr/>
          <p:nvPr/>
        </p:nvSpPr>
        <p:spPr>
          <a:xfrm>
            <a:off x="3657600" y="3887640"/>
            <a:ext cx="8096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108 </a:t>
            </a:r>
            <a:r>
              <a:rPr b="1" lang="en-US" sz="1800" spc="-1" strike="noStrike">
                <a:solidFill>
                  <a:srgbClr val="cc0066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Text Box 24"/>
          <p:cNvSpPr/>
          <p:nvPr/>
        </p:nvSpPr>
        <p:spPr>
          <a:xfrm>
            <a:off x="6172200" y="3505320"/>
            <a:ext cx="213372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40059"/>
                </a:solidFill>
                <a:latin typeface="Arial"/>
              </a:rPr>
              <a:t>180 - 7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40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50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2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121896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wo angles that occupy corresponding positions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1" name="AutoShape 4"/>
          <p:cNvSpPr/>
          <p:nvPr/>
        </p:nvSpPr>
        <p:spPr>
          <a:xfrm>
            <a:off x="914400" y="2924280"/>
            <a:ext cx="3200400" cy="31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Line 5"/>
          <p:cNvSpPr/>
          <p:nvPr/>
        </p:nvSpPr>
        <p:spPr>
          <a:xfrm flipH="1">
            <a:off x="2209320" y="2743200"/>
            <a:ext cx="838440" cy="38862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Line 6"/>
          <p:cNvSpPr/>
          <p:nvPr/>
        </p:nvSpPr>
        <p:spPr>
          <a:xfrm>
            <a:off x="609480" y="3838680"/>
            <a:ext cx="41148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Text Box 8"/>
          <p:cNvSpPr/>
          <p:nvPr/>
        </p:nvSpPr>
        <p:spPr>
          <a:xfrm>
            <a:off x="1295280" y="3124080"/>
            <a:ext cx="141948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Top Lef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Line 10"/>
          <p:cNvSpPr/>
          <p:nvPr/>
        </p:nvSpPr>
        <p:spPr>
          <a:xfrm>
            <a:off x="457200" y="5486400"/>
            <a:ext cx="403848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Text Box 11"/>
          <p:cNvSpPr/>
          <p:nvPr/>
        </p:nvSpPr>
        <p:spPr>
          <a:xfrm>
            <a:off x="3068280" y="2438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Text Box 14"/>
          <p:cNvSpPr/>
          <p:nvPr/>
        </p:nvSpPr>
        <p:spPr>
          <a:xfrm>
            <a:off x="990720" y="4878360"/>
            <a:ext cx="141912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Top Lef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Text Box 15"/>
          <p:cNvSpPr/>
          <p:nvPr/>
        </p:nvSpPr>
        <p:spPr>
          <a:xfrm>
            <a:off x="3124080" y="3125880"/>
            <a:ext cx="141948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Top R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Text Box 16"/>
          <p:cNvSpPr/>
          <p:nvPr/>
        </p:nvSpPr>
        <p:spPr>
          <a:xfrm>
            <a:off x="2847960" y="4911840"/>
            <a:ext cx="141912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Top R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Text Box 17"/>
          <p:cNvSpPr/>
          <p:nvPr/>
        </p:nvSpPr>
        <p:spPr>
          <a:xfrm>
            <a:off x="3048120" y="4192560"/>
            <a:ext cx="175248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bbfd"/>
                </a:solidFill>
                <a:latin typeface="Arial"/>
              </a:rPr>
              <a:t>Bottom R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Text Box 18"/>
          <p:cNvSpPr/>
          <p:nvPr/>
        </p:nvSpPr>
        <p:spPr>
          <a:xfrm>
            <a:off x="2895480" y="5869080"/>
            <a:ext cx="175284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bbfd"/>
                </a:solidFill>
                <a:latin typeface="Arial"/>
              </a:rPr>
              <a:t>Bottom R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Text Box 19"/>
          <p:cNvSpPr/>
          <p:nvPr/>
        </p:nvSpPr>
        <p:spPr>
          <a:xfrm>
            <a:off x="838080" y="4116240"/>
            <a:ext cx="149544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Bottom Lef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Text Box 20"/>
          <p:cNvSpPr/>
          <p:nvPr/>
        </p:nvSpPr>
        <p:spPr>
          <a:xfrm>
            <a:off x="685800" y="5791320"/>
            <a:ext cx="149544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Bottom Lef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21"/>
          <p:cNvSpPr/>
          <p:nvPr/>
        </p:nvSpPr>
        <p:spPr>
          <a:xfrm>
            <a:off x="5334120" y="2879640"/>
            <a:ext cx="3124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0066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cc0066"/>
                </a:solidFill>
                <a:latin typeface="Arial"/>
              </a:rPr>
              <a:t>= </a:t>
            </a:r>
            <a:r>
              <a:rPr b="0" lang="en-US" sz="4000" spc="-1" strike="noStrike">
                <a:solidFill>
                  <a:srgbClr val="cc0066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cc0066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0080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Arial"/>
              </a:rPr>
              <a:t>2 =</a:t>
            </a:r>
            <a:r>
              <a:rPr b="0" lang="en-US" sz="4000" spc="-1" strike="noStrike">
                <a:solidFill>
                  <a:srgbClr val="800080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800080"/>
                </a:solidFill>
                <a:latin typeface="Arial"/>
              </a:rPr>
              <a:t> 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3 = </a:t>
            </a:r>
            <a:r>
              <a:rPr b="0" lang="en-US" sz="4000" spc="-1" strike="noStrike">
                <a:solidFill>
                  <a:srgbClr val="009900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 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bbfd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7bbfd"/>
                </a:solidFill>
                <a:latin typeface="Arial"/>
              </a:rPr>
              <a:t>4 = </a:t>
            </a:r>
            <a:r>
              <a:rPr b="0" lang="en-US" sz="4000" spc="-1" strike="noStrike">
                <a:solidFill>
                  <a:srgbClr val="17bbfd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17bbfd"/>
                </a:solidFill>
                <a:latin typeface="Arial"/>
              </a:rPr>
              <a:t> 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5" name="Group 30"/>
          <p:cNvGrpSpPr/>
          <p:nvPr/>
        </p:nvGrpSpPr>
        <p:grpSpPr>
          <a:xfrm>
            <a:off x="2057400" y="3429000"/>
            <a:ext cx="1430280" cy="2739960"/>
            <a:chOff x="2057400" y="3429000"/>
            <a:chExt cx="1430280" cy="2739960"/>
          </a:xfrm>
        </p:grpSpPr>
        <p:sp>
          <p:nvSpPr>
            <p:cNvPr id="456" name="Text Box 22"/>
            <p:cNvSpPr/>
            <p:nvPr/>
          </p:nvSpPr>
          <p:spPr>
            <a:xfrm>
              <a:off x="2454120" y="3429000"/>
              <a:ext cx="59400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d2d2d2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Text Box 23"/>
            <p:cNvSpPr/>
            <p:nvPr/>
          </p:nvSpPr>
          <p:spPr>
            <a:xfrm>
              <a:off x="2895480" y="3430440"/>
              <a:ext cx="59220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d2d2d2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Text Box 24"/>
            <p:cNvSpPr/>
            <p:nvPr/>
          </p:nvSpPr>
          <p:spPr>
            <a:xfrm>
              <a:off x="2362320" y="3962520"/>
              <a:ext cx="5936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d2d2d2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Text Box 25"/>
            <p:cNvSpPr/>
            <p:nvPr/>
          </p:nvSpPr>
          <p:spPr>
            <a:xfrm>
              <a:off x="2835360" y="3962520"/>
              <a:ext cx="59364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d2d2d2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Text Box 26"/>
            <p:cNvSpPr/>
            <p:nvPr/>
          </p:nvSpPr>
          <p:spPr>
            <a:xfrm>
              <a:off x="2133720" y="4952880"/>
              <a:ext cx="593640" cy="6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d2d2d2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Text Box 27"/>
            <p:cNvSpPr/>
            <p:nvPr/>
          </p:nvSpPr>
          <p:spPr>
            <a:xfrm>
              <a:off x="2606760" y="4956120"/>
              <a:ext cx="593640" cy="6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d2d2d2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Text Box 28"/>
            <p:cNvSpPr/>
            <p:nvPr/>
          </p:nvSpPr>
          <p:spPr>
            <a:xfrm>
              <a:off x="2057400" y="5562720"/>
              <a:ext cx="59220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d2d2d2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Text Box 29"/>
            <p:cNvSpPr/>
            <p:nvPr/>
          </p:nvSpPr>
          <p:spPr>
            <a:xfrm>
              <a:off x="2530440" y="5562720"/>
              <a:ext cx="59364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d2d2d2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4" name="Rectangle 31"/>
          <p:cNvSpPr/>
          <p:nvPr/>
        </p:nvSpPr>
        <p:spPr>
          <a:xfrm>
            <a:off x="7393680" y="6324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8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7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0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Rectangle 2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d the measures of the missing angl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7" name="AutoShape 23"/>
          <p:cNvSpPr/>
          <p:nvPr/>
        </p:nvSpPr>
        <p:spPr>
          <a:xfrm>
            <a:off x="2590920" y="2847960"/>
            <a:ext cx="320040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Line 24"/>
          <p:cNvSpPr/>
          <p:nvPr/>
        </p:nvSpPr>
        <p:spPr>
          <a:xfrm flipH="1">
            <a:off x="4012920" y="2847960"/>
            <a:ext cx="639720" cy="3171960"/>
          </a:xfrm>
          <a:prstGeom prst="line">
            <a:avLst/>
          </a:prstGeom>
          <a:ln w="38160">
            <a:solidFill>
              <a:srgbClr val="e4005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Line 25"/>
          <p:cNvSpPr/>
          <p:nvPr/>
        </p:nvSpPr>
        <p:spPr>
          <a:xfrm>
            <a:off x="2666880" y="3914640"/>
            <a:ext cx="3124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Text Box 26"/>
          <p:cNvSpPr/>
          <p:nvPr/>
        </p:nvSpPr>
        <p:spPr>
          <a:xfrm>
            <a:off x="3733920" y="3459240"/>
            <a:ext cx="99036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45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Text Box 27"/>
          <p:cNvSpPr/>
          <p:nvPr/>
        </p:nvSpPr>
        <p:spPr>
          <a:xfrm>
            <a:off x="4524480" y="3459240"/>
            <a:ext cx="5922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Text Box 28"/>
          <p:cNvSpPr/>
          <p:nvPr/>
        </p:nvSpPr>
        <p:spPr>
          <a:xfrm>
            <a:off x="4038480" y="3917880"/>
            <a:ext cx="5940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Text Box 29"/>
          <p:cNvSpPr/>
          <p:nvPr/>
        </p:nvSpPr>
        <p:spPr>
          <a:xfrm>
            <a:off x="3809880" y="4343400"/>
            <a:ext cx="5940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Text Box 30"/>
          <p:cNvSpPr/>
          <p:nvPr/>
        </p:nvSpPr>
        <p:spPr>
          <a:xfrm>
            <a:off x="2666880" y="4724280"/>
            <a:ext cx="5940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Text Box 33"/>
          <p:cNvSpPr/>
          <p:nvPr/>
        </p:nvSpPr>
        <p:spPr>
          <a:xfrm>
            <a:off x="4206960" y="4905360"/>
            <a:ext cx="593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Line 34"/>
          <p:cNvSpPr/>
          <p:nvPr/>
        </p:nvSpPr>
        <p:spPr>
          <a:xfrm>
            <a:off x="2743200" y="4829040"/>
            <a:ext cx="312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Text Box 35"/>
          <p:cNvSpPr/>
          <p:nvPr/>
        </p:nvSpPr>
        <p:spPr>
          <a:xfrm>
            <a:off x="4649400" y="2546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40059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Text Box 36"/>
          <p:cNvSpPr/>
          <p:nvPr/>
        </p:nvSpPr>
        <p:spPr>
          <a:xfrm>
            <a:off x="4495680" y="3508200"/>
            <a:ext cx="74448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Text Box 37"/>
          <p:cNvSpPr/>
          <p:nvPr/>
        </p:nvSpPr>
        <p:spPr>
          <a:xfrm>
            <a:off x="3581280" y="4419720"/>
            <a:ext cx="990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45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2" dur="50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35"/>
          <p:cNvSpPr/>
          <p:nvPr/>
        </p:nvSpPr>
        <p:spPr>
          <a:xfrm>
            <a:off x="1447920" y="1905120"/>
            <a:ext cx="5867280" cy="533160"/>
          </a:xfrm>
          <a:prstGeom prst="rect">
            <a:avLst/>
          </a:prstGeom>
          <a:gradFill rotWithShape="0">
            <a:gsLst>
              <a:gs pos="0">
                <a:srgbClr val="ffc5e2"/>
              </a:gs>
              <a:gs pos="100000">
                <a:srgbClr val="ff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Rectangle 34"/>
          <p:cNvSpPr/>
          <p:nvPr/>
        </p:nvSpPr>
        <p:spPr>
          <a:xfrm>
            <a:off x="1447920" y="533520"/>
            <a:ext cx="2438280" cy="533160"/>
          </a:xfrm>
          <a:prstGeom prst="rect">
            <a:avLst/>
          </a:prstGeom>
          <a:gradFill rotWithShape="0">
            <a:gsLst>
              <a:gs pos="0">
                <a:srgbClr val="ffc5e2"/>
              </a:gs>
              <a:gs pos="100000">
                <a:srgbClr val="ff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Rectangle 31"/>
          <p:cNvSpPr/>
          <p:nvPr/>
        </p:nvSpPr>
        <p:spPr>
          <a:xfrm rot="3000">
            <a:off x="990720" y="3886200"/>
            <a:ext cx="3355920" cy="1600200"/>
          </a:xfrm>
          <a:prstGeom prst="rect">
            <a:avLst/>
          </a:prstGeom>
          <a:solidFill>
            <a:srgbClr val="ffff4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Rectangle 33"/>
          <p:cNvSpPr/>
          <p:nvPr/>
        </p:nvSpPr>
        <p:spPr>
          <a:xfrm>
            <a:off x="3886200" y="533520"/>
            <a:ext cx="1828800" cy="5331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Rectangle 30"/>
          <p:cNvSpPr/>
          <p:nvPr/>
        </p:nvSpPr>
        <p:spPr>
          <a:xfrm>
            <a:off x="4267080" y="1447920"/>
            <a:ext cx="4114800" cy="4572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5" name="Rectangle 2" descr=""/>
          <p:cNvPicPr/>
          <p:nvPr/>
        </p:nvPicPr>
        <p:blipFill>
          <a:blip r:embed="rId1"/>
          <a:stretch/>
        </p:blipFill>
        <p:spPr>
          <a:xfrm>
            <a:off x="457200" y="231840"/>
            <a:ext cx="8229600" cy="121896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wo angles that lie between parallel lines on opposite sides of the transversa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7" name="AutoShape 4"/>
          <p:cNvSpPr/>
          <p:nvPr/>
        </p:nvSpPr>
        <p:spPr>
          <a:xfrm>
            <a:off x="990720" y="2895480"/>
            <a:ext cx="320040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Line 5"/>
          <p:cNvSpPr/>
          <p:nvPr/>
        </p:nvSpPr>
        <p:spPr>
          <a:xfrm flipH="1">
            <a:off x="2209320" y="2743200"/>
            <a:ext cx="838440" cy="38862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Line 6"/>
          <p:cNvSpPr/>
          <p:nvPr/>
        </p:nvSpPr>
        <p:spPr>
          <a:xfrm>
            <a:off x="609480" y="3838680"/>
            <a:ext cx="41148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Line 8"/>
          <p:cNvSpPr/>
          <p:nvPr/>
        </p:nvSpPr>
        <p:spPr>
          <a:xfrm>
            <a:off x="609480" y="5486400"/>
            <a:ext cx="403884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Text Box 9"/>
          <p:cNvSpPr/>
          <p:nvPr/>
        </p:nvSpPr>
        <p:spPr>
          <a:xfrm>
            <a:off x="3068280" y="2438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Text Box 17"/>
          <p:cNvSpPr/>
          <p:nvPr/>
        </p:nvSpPr>
        <p:spPr>
          <a:xfrm>
            <a:off x="5334120" y="2879640"/>
            <a:ext cx="3124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0080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Arial"/>
              </a:rPr>
              <a:t>3 = </a:t>
            </a:r>
            <a:r>
              <a:rPr b="0" lang="en-US" sz="4000" spc="-1" strike="noStrike">
                <a:solidFill>
                  <a:srgbClr val="800080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800080"/>
                </a:solidFill>
                <a:latin typeface="Arial"/>
              </a:rPr>
              <a:t> 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4 = </a:t>
            </a:r>
            <a:r>
              <a:rPr b="0" lang="en-US" sz="4000" spc="-1" strike="noStrike">
                <a:solidFill>
                  <a:srgbClr val="009900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 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Text Box 19"/>
          <p:cNvSpPr/>
          <p:nvPr/>
        </p:nvSpPr>
        <p:spPr>
          <a:xfrm>
            <a:off x="2454120" y="3429000"/>
            <a:ext cx="5940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Text Box 20"/>
          <p:cNvSpPr/>
          <p:nvPr/>
        </p:nvSpPr>
        <p:spPr>
          <a:xfrm>
            <a:off x="2895480" y="3430440"/>
            <a:ext cx="5922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Text Box 21"/>
          <p:cNvSpPr/>
          <p:nvPr/>
        </p:nvSpPr>
        <p:spPr>
          <a:xfrm>
            <a:off x="2378160" y="3962520"/>
            <a:ext cx="593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Text Box 22"/>
          <p:cNvSpPr/>
          <p:nvPr/>
        </p:nvSpPr>
        <p:spPr>
          <a:xfrm>
            <a:off x="2835360" y="3962520"/>
            <a:ext cx="59364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Text Box 23"/>
          <p:cNvSpPr/>
          <p:nvPr/>
        </p:nvSpPr>
        <p:spPr>
          <a:xfrm>
            <a:off x="2149560" y="5105520"/>
            <a:ext cx="59364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Text Box 24"/>
          <p:cNvSpPr/>
          <p:nvPr/>
        </p:nvSpPr>
        <p:spPr>
          <a:xfrm>
            <a:off x="2530440" y="5108400"/>
            <a:ext cx="593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Text Box 25"/>
          <p:cNvSpPr/>
          <p:nvPr/>
        </p:nvSpPr>
        <p:spPr>
          <a:xfrm>
            <a:off x="2057400" y="5562720"/>
            <a:ext cx="59220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Text Box 26"/>
          <p:cNvSpPr/>
          <p:nvPr/>
        </p:nvSpPr>
        <p:spPr>
          <a:xfrm>
            <a:off x="2530440" y="5562720"/>
            <a:ext cx="59364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Line 36"/>
          <p:cNvSpPr/>
          <p:nvPr/>
        </p:nvSpPr>
        <p:spPr>
          <a:xfrm flipH="1">
            <a:off x="2209320" y="2743200"/>
            <a:ext cx="838440" cy="3886200"/>
          </a:xfrm>
          <a:prstGeom prst="line">
            <a:avLst/>
          </a:prstGeom>
          <a:ln w="38160">
            <a:solidFill>
              <a:srgbClr val="cc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AutoShape 37"/>
          <p:cNvSpPr/>
          <p:nvPr/>
        </p:nvSpPr>
        <p:spPr>
          <a:xfrm rot="14803200">
            <a:off x="2208600" y="3713400"/>
            <a:ext cx="1009800" cy="820440"/>
          </a:xfrm>
          <a:custGeom>
            <a:avLst/>
            <a:gdLst>
              <a:gd name="textAreaLeft" fmla="*/ 147240 w 1009800"/>
              <a:gd name="textAreaRight" fmla="*/ 862560 w 1009800"/>
              <a:gd name="textAreaTop" fmla="*/ 0 h 820440"/>
              <a:gd name="textAreaBottom" fmla="*/ 162360 h 820440"/>
            </a:gdLst>
            <a:ahLst/>
            <a:rect l="textAreaLeft" t="textAreaTop" r="textAreaRight" b="textAreaBottom"/>
            <a:pathLst>
              <a:path w="21600" h="21600">
                <a:moveTo>
                  <a:pt x="5676" y="3115"/>
                </a:moveTo>
                <a:cubicBezTo>
                  <a:pt x="7193" y="2103"/>
                  <a:pt x="8976" y="1563"/>
                  <a:pt x="10800" y="1564"/>
                </a:cubicBezTo>
                <a:cubicBezTo>
                  <a:pt x="12623" y="1564"/>
                  <a:pt x="14406" y="2103"/>
                  <a:pt x="15923" y="3115"/>
                </a:cubicBezTo>
                <a:lnTo>
                  <a:pt x="16791" y="1814"/>
                </a:lnTo>
                <a:cubicBezTo>
                  <a:pt x="15017" y="631"/>
                  <a:pt x="12932" y="-1"/>
                  <a:pt x="10799" y="0"/>
                </a:cubicBezTo>
                <a:cubicBezTo>
                  <a:pt x="8667" y="0"/>
                  <a:pt x="6582" y="631"/>
                  <a:pt x="4808" y="1814"/>
                </a:cubicBezTo>
                <a:lnTo>
                  <a:pt x="5676" y="3115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AutoShape 38"/>
          <p:cNvSpPr/>
          <p:nvPr/>
        </p:nvSpPr>
        <p:spPr>
          <a:xfrm rot="3543600">
            <a:off x="1969200" y="4888440"/>
            <a:ext cx="990360" cy="966960"/>
          </a:xfrm>
          <a:custGeom>
            <a:avLst/>
            <a:gdLst>
              <a:gd name="textAreaLeft" fmla="*/ 156960 w 990360"/>
              <a:gd name="textAreaRight" fmla="*/ 833400 w 990360"/>
              <a:gd name="textAreaTop" fmla="*/ 0 h 966960"/>
              <a:gd name="textAreaBottom" fmla="*/ 172800 h 966960"/>
            </a:gdLst>
            <a:ahLst/>
            <a:rect l="textAreaLeft" t="textAreaTop" r="textAreaRight" b="textAreaBottom"/>
            <a:pathLst>
              <a:path w="21600" h="21600">
                <a:moveTo>
                  <a:pt x="5796" y="2735"/>
                </a:moveTo>
                <a:cubicBezTo>
                  <a:pt x="7298" y="1802"/>
                  <a:pt x="9031" y="1308"/>
                  <a:pt x="10800" y="1309"/>
                </a:cubicBezTo>
                <a:cubicBezTo>
                  <a:pt x="12568" y="1309"/>
                  <a:pt x="14301" y="1802"/>
                  <a:pt x="15803" y="2735"/>
                </a:cubicBezTo>
                <a:lnTo>
                  <a:pt x="16493" y="1622"/>
                </a:lnTo>
                <a:cubicBezTo>
                  <a:pt x="14784" y="562"/>
                  <a:pt x="12812" y="-1"/>
                  <a:pt x="10799" y="0"/>
                </a:cubicBezTo>
                <a:cubicBezTo>
                  <a:pt x="8787" y="0"/>
                  <a:pt x="6815" y="562"/>
                  <a:pt x="5106" y="1622"/>
                </a:cubicBezTo>
                <a:lnTo>
                  <a:pt x="5796" y="2735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AutoShape 39"/>
          <p:cNvSpPr/>
          <p:nvPr/>
        </p:nvSpPr>
        <p:spPr>
          <a:xfrm rot="7743600">
            <a:off x="2284920" y="3713760"/>
            <a:ext cx="1009800" cy="820800"/>
          </a:xfrm>
          <a:custGeom>
            <a:avLst/>
            <a:gdLst>
              <a:gd name="textAreaLeft" fmla="*/ 147240 w 1009800"/>
              <a:gd name="textAreaRight" fmla="*/ 862560 w 1009800"/>
              <a:gd name="textAreaTop" fmla="*/ 0 h 820800"/>
              <a:gd name="textAreaBottom" fmla="*/ 162720 h 820800"/>
            </a:gdLst>
            <a:ahLst/>
            <a:rect l="textAreaLeft" t="textAreaTop" r="textAreaRight" b="textAreaBottom"/>
            <a:pathLst>
              <a:path w="21600" h="21600">
                <a:moveTo>
                  <a:pt x="5676" y="3115"/>
                </a:moveTo>
                <a:cubicBezTo>
                  <a:pt x="7193" y="2103"/>
                  <a:pt x="8976" y="1563"/>
                  <a:pt x="10800" y="1564"/>
                </a:cubicBezTo>
                <a:cubicBezTo>
                  <a:pt x="12623" y="1564"/>
                  <a:pt x="14406" y="2103"/>
                  <a:pt x="15923" y="3115"/>
                </a:cubicBezTo>
                <a:lnTo>
                  <a:pt x="16791" y="1814"/>
                </a:lnTo>
                <a:cubicBezTo>
                  <a:pt x="15017" y="631"/>
                  <a:pt x="12932" y="-1"/>
                  <a:pt x="10799" y="0"/>
                </a:cubicBezTo>
                <a:cubicBezTo>
                  <a:pt x="8667" y="0"/>
                  <a:pt x="6582" y="631"/>
                  <a:pt x="4808" y="1814"/>
                </a:cubicBezTo>
                <a:lnTo>
                  <a:pt x="5676" y="3115"/>
                </a:lnTo>
                <a:close/>
              </a:path>
            </a:pathLst>
          </a:cu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AutoShape 40"/>
          <p:cNvSpPr/>
          <p:nvPr/>
        </p:nvSpPr>
        <p:spPr>
          <a:xfrm rot="18088800">
            <a:off x="2045880" y="4888080"/>
            <a:ext cx="990360" cy="966960"/>
          </a:xfrm>
          <a:custGeom>
            <a:avLst/>
            <a:gdLst>
              <a:gd name="textAreaLeft" fmla="*/ 156960 w 990360"/>
              <a:gd name="textAreaRight" fmla="*/ 833400 w 990360"/>
              <a:gd name="textAreaTop" fmla="*/ 0 h 966960"/>
              <a:gd name="textAreaBottom" fmla="*/ 172800 h 966960"/>
            </a:gdLst>
            <a:ahLst/>
            <a:rect l="textAreaLeft" t="textAreaTop" r="textAreaRight" b="textAreaBottom"/>
            <a:pathLst>
              <a:path w="21600" h="21600">
                <a:moveTo>
                  <a:pt x="5796" y="2735"/>
                </a:moveTo>
                <a:cubicBezTo>
                  <a:pt x="7298" y="1802"/>
                  <a:pt x="9031" y="1308"/>
                  <a:pt x="10800" y="1309"/>
                </a:cubicBezTo>
                <a:cubicBezTo>
                  <a:pt x="12568" y="1309"/>
                  <a:pt x="14301" y="1802"/>
                  <a:pt x="15803" y="2735"/>
                </a:cubicBezTo>
                <a:lnTo>
                  <a:pt x="16493" y="1622"/>
                </a:lnTo>
                <a:cubicBezTo>
                  <a:pt x="14784" y="562"/>
                  <a:pt x="12812" y="-1"/>
                  <a:pt x="10799" y="0"/>
                </a:cubicBezTo>
                <a:cubicBezTo>
                  <a:pt x="8787" y="0"/>
                  <a:pt x="6815" y="562"/>
                  <a:pt x="5106" y="1622"/>
                </a:cubicBezTo>
                <a:lnTo>
                  <a:pt x="5796" y="2735"/>
                </a:lnTo>
                <a:close/>
              </a:path>
            </a:pathLst>
          </a:cu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0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7" dur="80"/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8" dur="80"/>
                                        <p:tgtEl>
                                          <p:spTgt spid="4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" dur="80"/>
                                        <p:tgtEl>
                                          <p:spTgt spid="4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3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4" dur="50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8" dur="50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2" dur="500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6" dur="500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4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7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12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15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Rectangle 2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d the measures of the missing angl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8" name="AutoShape 4"/>
          <p:cNvSpPr/>
          <p:nvPr/>
        </p:nvSpPr>
        <p:spPr>
          <a:xfrm>
            <a:off x="2590920" y="2847960"/>
            <a:ext cx="320040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Line 5"/>
          <p:cNvSpPr/>
          <p:nvPr/>
        </p:nvSpPr>
        <p:spPr>
          <a:xfrm flipH="1">
            <a:off x="4012920" y="2847960"/>
            <a:ext cx="639720" cy="3171960"/>
          </a:xfrm>
          <a:prstGeom prst="line">
            <a:avLst/>
          </a:prstGeom>
          <a:ln w="38160">
            <a:solidFill>
              <a:srgbClr val="e4005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Line 6"/>
          <p:cNvSpPr/>
          <p:nvPr/>
        </p:nvSpPr>
        <p:spPr>
          <a:xfrm>
            <a:off x="2666880" y="3914640"/>
            <a:ext cx="3124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Text Box 7"/>
          <p:cNvSpPr/>
          <p:nvPr/>
        </p:nvSpPr>
        <p:spPr>
          <a:xfrm>
            <a:off x="3657600" y="3962520"/>
            <a:ext cx="990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2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Text Box 8"/>
          <p:cNvSpPr/>
          <p:nvPr/>
        </p:nvSpPr>
        <p:spPr>
          <a:xfrm>
            <a:off x="4524480" y="3459240"/>
            <a:ext cx="5922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Text Box 10"/>
          <p:cNvSpPr/>
          <p:nvPr/>
        </p:nvSpPr>
        <p:spPr>
          <a:xfrm>
            <a:off x="4282920" y="4422600"/>
            <a:ext cx="5940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Text Box 11"/>
          <p:cNvSpPr/>
          <p:nvPr/>
        </p:nvSpPr>
        <p:spPr>
          <a:xfrm>
            <a:off x="2666880" y="4724280"/>
            <a:ext cx="5940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Text Box 12"/>
          <p:cNvSpPr/>
          <p:nvPr/>
        </p:nvSpPr>
        <p:spPr>
          <a:xfrm>
            <a:off x="4206960" y="4905360"/>
            <a:ext cx="593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Line 13"/>
          <p:cNvSpPr/>
          <p:nvPr/>
        </p:nvSpPr>
        <p:spPr>
          <a:xfrm>
            <a:off x="2743200" y="4829040"/>
            <a:ext cx="312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Text Box 14"/>
          <p:cNvSpPr/>
          <p:nvPr/>
        </p:nvSpPr>
        <p:spPr>
          <a:xfrm>
            <a:off x="4649400" y="2546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40059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Text Box 15"/>
          <p:cNvSpPr/>
          <p:nvPr/>
        </p:nvSpPr>
        <p:spPr>
          <a:xfrm>
            <a:off x="3657600" y="4422600"/>
            <a:ext cx="74448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98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Text Box 16"/>
          <p:cNvSpPr/>
          <p:nvPr/>
        </p:nvSpPr>
        <p:spPr>
          <a:xfrm>
            <a:off x="4343400" y="4419720"/>
            <a:ext cx="990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2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8" dur="500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30"/>
          <p:cNvSpPr/>
          <p:nvPr/>
        </p:nvSpPr>
        <p:spPr>
          <a:xfrm rot="3000">
            <a:off x="838080" y="5486400"/>
            <a:ext cx="3355920" cy="685800"/>
          </a:xfrm>
          <a:prstGeom prst="rect">
            <a:avLst/>
          </a:prstGeom>
          <a:solidFill>
            <a:srgbClr val="ffff4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Rectangle 2"/>
          <p:cNvSpPr/>
          <p:nvPr/>
        </p:nvSpPr>
        <p:spPr>
          <a:xfrm>
            <a:off x="1447920" y="1905120"/>
            <a:ext cx="5867280" cy="533160"/>
          </a:xfrm>
          <a:prstGeom prst="rect">
            <a:avLst/>
          </a:prstGeom>
          <a:gradFill rotWithShape="0">
            <a:gsLst>
              <a:gs pos="0">
                <a:srgbClr val="ffc5e2"/>
              </a:gs>
              <a:gs pos="100000">
                <a:srgbClr val="ff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Rectangle 3"/>
          <p:cNvSpPr/>
          <p:nvPr/>
        </p:nvSpPr>
        <p:spPr>
          <a:xfrm>
            <a:off x="1447920" y="533520"/>
            <a:ext cx="2438280" cy="533160"/>
          </a:xfrm>
          <a:prstGeom prst="rect">
            <a:avLst/>
          </a:prstGeom>
          <a:gradFill rotWithShape="0">
            <a:gsLst>
              <a:gs pos="0">
                <a:srgbClr val="ffc5e2"/>
              </a:gs>
              <a:gs pos="100000">
                <a:srgbClr val="ff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4"/>
          <p:cNvSpPr/>
          <p:nvPr/>
        </p:nvSpPr>
        <p:spPr>
          <a:xfrm rot="3000">
            <a:off x="990360" y="2971800"/>
            <a:ext cx="3355920" cy="838080"/>
          </a:xfrm>
          <a:prstGeom prst="rect">
            <a:avLst/>
          </a:prstGeom>
          <a:solidFill>
            <a:srgbClr val="ffff4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Rectangle 5"/>
          <p:cNvSpPr/>
          <p:nvPr/>
        </p:nvSpPr>
        <p:spPr>
          <a:xfrm>
            <a:off x="3886200" y="533520"/>
            <a:ext cx="1828800" cy="5331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Rectangle 6"/>
          <p:cNvSpPr/>
          <p:nvPr/>
        </p:nvSpPr>
        <p:spPr>
          <a:xfrm>
            <a:off x="4267080" y="1447920"/>
            <a:ext cx="4114800" cy="4572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6" name="Rectangle 7" descr=""/>
          <p:cNvPicPr/>
          <p:nvPr/>
        </p:nvPicPr>
        <p:blipFill>
          <a:blip r:embed="rId1"/>
          <a:stretch/>
        </p:blipFill>
        <p:spPr>
          <a:xfrm>
            <a:off x="457200" y="231840"/>
            <a:ext cx="8229600" cy="121896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wo angles that lie outside parallel lines on opposite sides of the transversa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8" name="Line 10"/>
          <p:cNvSpPr/>
          <p:nvPr/>
        </p:nvSpPr>
        <p:spPr>
          <a:xfrm flipH="1">
            <a:off x="2209320" y="2743200"/>
            <a:ext cx="838440" cy="38862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Line 11"/>
          <p:cNvSpPr/>
          <p:nvPr/>
        </p:nvSpPr>
        <p:spPr>
          <a:xfrm>
            <a:off x="609480" y="3838680"/>
            <a:ext cx="41148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Line 12"/>
          <p:cNvSpPr/>
          <p:nvPr/>
        </p:nvSpPr>
        <p:spPr>
          <a:xfrm>
            <a:off x="609480" y="5486400"/>
            <a:ext cx="403884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Text Box 13"/>
          <p:cNvSpPr/>
          <p:nvPr/>
        </p:nvSpPr>
        <p:spPr>
          <a:xfrm>
            <a:off x="3068280" y="2438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Text Box 14"/>
          <p:cNvSpPr/>
          <p:nvPr/>
        </p:nvSpPr>
        <p:spPr>
          <a:xfrm>
            <a:off x="5334120" y="2879640"/>
            <a:ext cx="3124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0080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Arial"/>
              </a:rPr>
              <a:t>2 = </a:t>
            </a:r>
            <a:r>
              <a:rPr b="0" lang="en-US" sz="4000" spc="-1" strike="noStrike">
                <a:solidFill>
                  <a:srgbClr val="800080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800080"/>
                </a:solidFill>
                <a:latin typeface="Arial"/>
              </a:rPr>
              <a:t> 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1 = </a:t>
            </a:r>
            <a:r>
              <a:rPr b="0" lang="en-US" sz="4000" spc="-1" strike="noStrike">
                <a:solidFill>
                  <a:srgbClr val="009900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 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Text Box 15"/>
          <p:cNvSpPr/>
          <p:nvPr/>
        </p:nvSpPr>
        <p:spPr>
          <a:xfrm>
            <a:off x="2454120" y="3429000"/>
            <a:ext cx="5940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Text Box 16"/>
          <p:cNvSpPr/>
          <p:nvPr/>
        </p:nvSpPr>
        <p:spPr>
          <a:xfrm>
            <a:off x="2895480" y="3430440"/>
            <a:ext cx="5922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Text Box 17"/>
          <p:cNvSpPr/>
          <p:nvPr/>
        </p:nvSpPr>
        <p:spPr>
          <a:xfrm>
            <a:off x="2378160" y="3962520"/>
            <a:ext cx="593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Text Box 18"/>
          <p:cNvSpPr/>
          <p:nvPr/>
        </p:nvSpPr>
        <p:spPr>
          <a:xfrm>
            <a:off x="2835360" y="3962520"/>
            <a:ext cx="59364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Text Box 19"/>
          <p:cNvSpPr/>
          <p:nvPr/>
        </p:nvSpPr>
        <p:spPr>
          <a:xfrm>
            <a:off x="2149560" y="5105520"/>
            <a:ext cx="59364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Text Box 20"/>
          <p:cNvSpPr/>
          <p:nvPr/>
        </p:nvSpPr>
        <p:spPr>
          <a:xfrm>
            <a:off x="2530440" y="5108400"/>
            <a:ext cx="593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Text Box 21"/>
          <p:cNvSpPr/>
          <p:nvPr/>
        </p:nvSpPr>
        <p:spPr>
          <a:xfrm>
            <a:off x="2057400" y="5562720"/>
            <a:ext cx="59220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Text Box 22"/>
          <p:cNvSpPr/>
          <p:nvPr/>
        </p:nvSpPr>
        <p:spPr>
          <a:xfrm>
            <a:off x="2530440" y="5562720"/>
            <a:ext cx="59364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Line 25"/>
          <p:cNvSpPr/>
          <p:nvPr/>
        </p:nvSpPr>
        <p:spPr>
          <a:xfrm flipH="1">
            <a:off x="2209320" y="2743200"/>
            <a:ext cx="838440" cy="3886200"/>
          </a:xfrm>
          <a:prstGeom prst="line">
            <a:avLst/>
          </a:prstGeom>
          <a:ln w="38160">
            <a:solidFill>
              <a:srgbClr val="cc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AutoShape 26"/>
          <p:cNvSpPr/>
          <p:nvPr/>
        </p:nvSpPr>
        <p:spPr>
          <a:xfrm rot="14803200">
            <a:off x="1886400" y="5275440"/>
            <a:ext cx="1009800" cy="820800"/>
          </a:xfrm>
          <a:custGeom>
            <a:avLst/>
            <a:gdLst>
              <a:gd name="textAreaLeft" fmla="*/ 147240 w 1009800"/>
              <a:gd name="textAreaRight" fmla="*/ 862560 w 1009800"/>
              <a:gd name="textAreaTop" fmla="*/ 0 h 820800"/>
              <a:gd name="textAreaBottom" fmla="*/ 162720 h 820800"/>
            </a:gdLst>
            <a:ahLst/>
            <a:rect l="textAreaLeft" t="textAreaTop" r="textAreaRight" b="textAreaBottom"/>
            <a:pathLst>
              <a:path w="21600" h="21600">
                <a:moveTo>
                  <a:pt x="5676" y="3115"/>
                </a:moveTo>
                <a:cubicBezTo>
                  <a:pt x="7193" y="2103"/>
                  <a:pt x="8976" y="1563"/>
                  <a:pt x="10800" y="1564"/>
                </a:cubicBezTo>
                <a:cubicBezTo>
                  <a:pt x="12623" y="1564"/>
                  <a:pt x="14406" y="2103"/>
                  <a:pt x="15923" y="3115"/>
                </a:cubicBezTo>
                <a:lnTo>
                  <a:pt x="16791" y="1814"/>
                </a:lnTo>
                <a:cubicBezTo>
                  <a:pt x="15017" y="631"/>
                  <a:pt x="12932" y="-1"/>
                  <a:pt x="10799" y="0"/>
                </a:cubicBezTo>
                <a:cubicBezTo>
                  <a:pt x="8667" y="0"/>
                  <a:pt x="6582" y="631"/>
                  <a:pt x="4808" y="1814"/>
                </a:cubicBezTo>
                <a:lnTo>
                  <a:pt x="5676" y="3115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AutoShape 27"/>
          <p:cNvSpPr/>
          <p:nvPr/>
        </p:nvSpPr>
        <p:spPr>
          <a:xfrm rot="3543600">
            <a:off x="2426400" y="3288240"/>
            <a:ext cx="990360" cy="966960"/>
          </a:xfrm>
          <a:custGeom>
            <a:avLst/>
            <a:gdLst>
              <a:gd name="textAreaLeft" fmla="*/ 156960 w 990360"/>
              <a:gd name="textAreaRight" fmla="*/ 833400 w 990360"/>
              <a:gd name="textAreaTop" fmla="*/ 0 h 966960"/>
              <a:gd name="textAreaBottom" fmla="*/ 172800 h 966960"/>
            </a:gdLst>
            <a:ahLst/>
            <a:rect l="textAreaLeft" t="textAreaTop" r="textAreaRight" b="textAreaBottom"/>
            <a:pathLst>
              <a:path w="21600" h="21600">
                <a:moveTo>
                  <a:pt x="5796" y="2735"/>
                </a:moveTo>
                <a:cubicBezTo>
                  <a:pt x="7298" y="1802"/>
                  <a:pt x="9031" y="1308"/>
                  <a:pt x="10800" y="1309"/>
                </a:cubicBezTo>
                <a:cubicBezTo>
                  <a:pt x="12568" y="1309"/>
                  <a:pt x="14301" y="1802"/>
                  <a:pt x="15803" y="2735"/>
                </a:cubicBezTo>
                <a:lnTo>
                  <a:pt x="16493" y="1622"/>
                </a:lnTo>
                <a:cubicBezTo>
                  <a:pt x="14784" y="562"/>
                  <a:pt x="12812" y="-1"/>
                  <a:pt x="10799" y="0"/>
                </a:cubicBezTo>
                <a:cubicBezTo>
                  <a:pt x="8787" y="0"/>
                  <a:pt x="6815" y="562"/>
                  <a:pt x="5106" y="1622"/>
                </a:cubicBezTo>
                <a:lnTo>
                  <a:pt x="5796" y="2735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AutoShape 28"/>
          <p:cNvSpPr/>
          <p:nvPr/>
        </p:nvSpPr>
        <p:spPr>
          <a:xfrm rot="7743600">
            <a:off x="2115360" y="5199840"/>
            <a:ext cx="1009440" cy="820800"/>
          </a:xfrm>
          <a:custGeom>
            <a:avLst/>
            <a:gdLst>
              <a:gd name="textAreaLeft" fmla="*/ 146880 w 1009440"/>
              <a:gd name="textAreaRight" fmla="*/ 862560 w 1009440"/>
              <a:gd name="textAreaTop" fmla="*/ 0 h 820800"/>
              <a:gd name="textAreaBottom" fmla="*/ 162720 h 820800"/>
            </a:gdLst>
            <a:ahLst/>
            <a:rect l="textAreaLeft" t="textAreaTop" r="textAreaRight" b="textAreaBottom"/>
            <a:pathLst>
              <a:path w="21600" h="21600">
                <a:moveTo>
                  <a:pt x="5676" y="3115"/>
                </a:moveTo>
                <a:cubicBezTo>
                  <a:pt x="7193" y="2103"/>
                  <a:pt x="8976" y="1563"/>
                  <a:pt x="10800" y="1564"/>
                </a:cubicBezTo>
                <a:cubicBezTo>
                  <a:pt x="12623" y="1564"/>
                  <a:pt x="14406" y="2103"/>
                  <a:pt x="15923" y="3115"/>
                </a:cubicBezTo>
                <a:lnTo>
                  <a:pt x="16791" y="1814"/>
                </a:lnTo>
                <a:cubicBezTo>
                  <a:pt x="15017" y="631"/>
                  <a:pt x="12932" y="-1"/>
                  <a:pt x="10799" y="0"/>
                </a:cubicBezTo>
                <a:cubicBezTo>
                  <a:pt x="8667" y="0"/>
                  <a:pt x="6582" y="631"/>
                  <a:pt x="4808" y="1814"/>
                </a:cubicBezTo>
                <a:lnTo>
                  <a:pt x="5676" y="3115"/>
                </a:lnTo>
                <a:close/>
              </a:path>
            </a:pathLst>
          </a:cu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AutoShape 29"/>
          <p:cNvSpPr/>
          <p:nvPr/>
        </p:nvSpPr>
        <p:spPr>
          <a:xfrm rot="18088800">
            <a:off x="2350080" y="3212640"/>
            <a:ext cx="990720" cy="966600"/>
          </a:xfrm>
          <a:custGeom>
            <a:avLst/>
            <a:gdLst>
              <a:gd name="textAreaLeft" fmla="*/ 156960 w 990720"/>
              <a:gd name="textAreaRight" fmla="*/ 833760 w 990720"/>
              <a:gd name="textAreaTop" fmla="*/ 0 h 966600"/>
              <a:gd name="textAreaBottom" fmla="*/ 172800 h 966600"/>
            </a:gdLst>
            <a:ahLst/>
            <a:rect l="textAreaLeft" t="textAreaTop" r="textAreaRight" b="textAreaBottom"/>
            <a:pathLst>
              <a:path w="21600" h="21600">
                <a:moveTo>
                  <a:pt x="5796" y="2735"/>
                </a:moveTo>
                <a:cubicBezTo>
                  <a:pt x="7298" y="1802"/>
                  <a:pt x="9031" y="1308"/>
                  <a:pt x="10800" y="1309"/>
                </a:cubicBezTo>
                <a:cubicBezTo>
                  <a:pt x="12568" y="1309"/>
                  <a:pt x="14301" y="1802"/>
                  <a:pt x="15803" y="2735"/>
                </a:cubicBezTo>
                <a:lnTo>
                  <a:pt x="16493" y="1622"/>
                </a:lnTo>
                <a:cubicBezTo>
                  <a:pt x="14784" y="562"/>
                  <a:pt x="12812" y="-1"/>
                  <a:pt x="10799" y="0"/>
                </a:cubicBezTo>
                <a:cubicBezTo>
                  <a:pt x="8787" y="0"/>
                  <a:pt x="6815" y="562"/>
                  <a:pt x="5106" y="1622"/>
                </a:cubicBezTo>
                <a:lnTo>
                  <a:pt x="5796" y="2735"/>
                </a:lnTo>
                <a:close/>
              </a:path>
            </a:pathLst>
          </a:cu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0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3" dur="80"/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4" dur="80"/>
                                        <p:tgtEl>
                                          <p:spTgt spid="5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5" dur="80"/>
                                        <p:tgtEl>
                                          <p:spTgt spid="5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4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3" dur="50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7" dur="50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1" dur="50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5" dur="50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03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06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11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14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2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2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Rectangle 2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d the measures of the missing angl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8" name="AutoShape 4"/>
          <p:cNvSpPr/>
          <p:nvPr/>
        </p:nvSpPr>
        <p:spPr>
          <a:xfrm>
            <a:off x="2590920" y="2847960"/>
            <a:ext cx="320040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Line 5"/>
          <p:cNvSpPr/>
          <p:nvPr/>
        </p:nvSpPr>
        <p:spPr>
          <a:xfrm flipH="1">
            <a:off x="4012920" y="2847960"/>
            <a:ext cx="639720" cy="3171960"/>
          </a:xfrm>
          <a:prstGeom prst="line">
            <a:avLst/>
          </a:prstGeom>
          <a:ln w="38160">
            <a:solidFill>
              <a:srgbClr val="e4005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Line 6"/>
          <p:cNvSpPr/>
          <p:nvPr/>
        </p:nvSpPr>
        <p:spPr>
          <a:xfrm>
            <a:off x="2666880" y="3914640"/>
            <a:ext cx="3124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Text Box 7"/>
          <p:cNvSpPr/>
          <p:nvPr/>
        </p:nvSpPr>
        <p:spPr>
          <a:xfrm>
            <a:off x="3733920" y="3505320"/>
            <a:ext cx="99036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20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Text Box 8"/>
          <p:cNvSpPr/>
          <p:nvPr/>
        </p:nvSpPr>
        <p:spPr>
          <a:xfrm>
            <a:off x="4524480" y="3459240"/>
            <a:ext cx="5922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Text Box 9"/>
          <p:cNvSpPr/>
          <p:nvPr/>
        </p:nvSpPr>
        <p:spPr>
          <a:xfrm>
            <a:off x="4267080" y="4803840"/>
            <a:ext cx="59400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Text Box 10"/>
          <p:cNvSpPr/>
          <p:nvPr/>
        </p:nvSpPr>
        <p:spPr>
          <a:xfrm>
            <a:off x="2666880" y="4724280"/>
            <a:ext cx="5940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Text Box 11"/>
          <p:cNvSpPr/>
          <p:nvPr/>
        </p:nvSpPr>
        <p:spPr>
          <a:xfrm>
            <a:off x="4206960" y="4905360"/>
            <a:ext cx="593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Line 12"/>
          <p:cNvSpPr/>
          <p:nvPr/>
        </p:nvSpPr>
        <p:spPr>
          <a:xfrm>
            <a:off x="2743200" y="4829040"/>
            <a:ext cx="312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Text Box 13"/>
          <p:cNvSpPr/>
          <p:nvPr/>
        </p:nvSpPr>
        <p:spPr>
          <a:xfrm>
            <a:off x="4649400" y="2546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40059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Text Box 14"/>
          <p:cNvSpPr/>
          <p:nvPr/>
        </p:nvSpPr>
        <p:spPr>
          <a:xfrm>
            <a:off x="3505320" y="4879800"/>
            <a:ext cx="74448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60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Text Box 15"/>
          <p:cNvSpPr/>
          <p:nvPr/>
        </p:nvSpPr>
        <p:spPr>
          <a:xfrm>
            <a:off x="4267080" y="4876920"/>
            <a:ext cx="990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20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7" dur="50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2"/>
          <p:cNvSpPr/>
          <p:nvPr/>
        </p:nvSpPr>
        <p:spPr>
          <a:xfrm>
            <a:off x="1447920" y="1905120"/>
            <a:ext cx="5867280" cy="533160"/>
          </a:xfrm>
          <a:prstGeom prst="rect">
            <a:avLst/>
          </a:prstGeom>
          <a:gradFill rotWithShape="0">
            <a:gsLst>
              <a:gs pos="0">
                <a:srgbClr val="ffc5e2"/>
              </a:gs>
              <a:gs pos="100000">
                <a:srgbClr val="ff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Rectangle 3"/>
          <p:cNvSpPr/>
          <p:nvPr/>
        </p:nvSpPr>
        <p:spPr>
          <a:xfrm>
            <a:off x="1143000" y="533520"/>
            <a:ext cx="3048120" cy="533160"/>
          </a:xfrm>
          <a:prstGeom prst="rect">
            <a:avLst/>
          </a:prstGeom>
          <a:gradFill rotWithShape="0">
            <a:gsLst>
              <a:gs pos="0">
                <a:srgbClr val="ffc5e2"/>
              </a:gs>
              <a:gs pos="100000">
                <a:srgbClr val="ff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Rectangle 4"/>
          <p:cNvSpPr/>
          <p:nvPr/>
        </p:nvSpPr>
        <p:spPr>
          <a:xfrm rot="3000">
            <a:off x="990720" y="3886200"/>
            <a:ext cx="3355920" cy="1600200"/>
          </a:xfrm>
          <a:prstGeom prst="rect">
            <a:avLst/>
          </a:prstGeom>
          <a:solidFill>
            <a:srgbClr val="ffff4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Rectangle 5"/>
          <p:cNvSpPr/>
          <p:nvPr/>
        </p:nvSpPr>
        <p:spPr>
          <a:xfrm>
            <a:off x="4343400" y="533520"/>
            <a:ext cx="1828800" cy="5331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Rectangle 6"/>
          <p:cNvSpPr/>
          <p:nvPr/>
        </p:nvSpPr>
        <p:spPr>
          <a:xfrm>
            <a:off x="4267080" y="1447920"/>
            <a:ext cx="4114800" cy="4572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5" name="Rectangle 7" descr=""/>
          <p:cNvPicPr/>
          <p:nvPr/>
        </p:nvPicPr>
        <p:blipFill>
          <a:blip r:embed="rId1"/>
          <a:stretch/>
        </p:blipFill>
        <p:spPr>
          <a:xfrm>
            <a:off x="457200" y="231840"/>
            <a:ext cx="8229600" cy="1218960"/>
          </a:xfrm>
          <a:prstGeom prst="rect">
            <a:avLst/>
          </a:prstGeom>
          <a:ln w="0">
            <a:noFill/>
          </a:ln>
        </p:spPr>
      </p:pic>
      <p:sp>
        <p:nvSpPr>
          <p:cNvPr id="566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wo angles that lie between parallel lines on the same sides of the transversa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7" name="AutoShape 9"/>
          <p:cNvSpPr/>
          <p:nvPr/>
        </p:nvSpPr>
        <p:spPr>
          <a:xfrm>
            <a:off x="990720" y="2895480"/>
            <a:ext cx="320040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Line 10"/>
          <p:cNvSpPr/>
          <p:nvPr/>
        </p:nvSpPr>
        <p:spPr>
          <a:xfrm flipH="1">
            <a:off x="2209320" y="2743200"/>
            <a:ext cx="838440" cy="38862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Line 11"/>
          <p:cNvSpPr/>
          <p:nvPr/>
        </p:nvSpPr>
        <p:spPr>
          <a:xfrm>
            <a:off x="609480" y="3838680"/>
            <a:ext cx="41148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Line 12"/>
          <p:cNvSpPr/>
          <p:nvPr/>
        </p:nvSpPr>
        <p:spPr>
          <a:xfrm>
            <a:off x="609480" y="5486400"/>
            <a:ext cx="403884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Text Box 13"/>
          <p:cNvSpPr/>
          <p:nvPr/>
        </p:nvSpPr>
        <p:spPr>
          <a:xfrm>
            <a:off x="3068280" y="2438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Text Box 14"/>
          <p:cNvSpPr/>
          <p:nvPr/>
        </p:nvSpPr>
        <p:spPr>
          <a:xfrm>
            <a:off x="5181480" y="2879640"/>
            <a:ext cx="36576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0080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Arial"/>
              </a:rPr>
              <a:t>3 +</a:t>
            </a:r>
            <a:r>
              <a:rPr b="0" lang="en-US" sz="4000" spc="-1" strike="noStrike">
                <a:solidFill>
                  <a:srgbClr val="800080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800080"/>
                </a:solidFill>
                <a:latin typeface="Arial"/>
              </a:rPr>
              <a:t>5 = 18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4 +</a:t>
            </a:r>
            <a:r>
              <a:rPr b="0" lang="en-US" sz="4000" spc="-1" strike="noStrike">
                <a:solidFill>
                  <a:srgbClr val="009900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6 = 18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Text Box 15"/>
          <p:cNvSpPr/>
          <p:nvPr/>
        </p:nvSpPr>
        <p:spPr>
          <a:xfrm>
            <a:off x="2454120" y="3429000"/>
            <a:ext cx="5940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Text Box 16"/>
          <p:cNvSpPr/>
          <p:nvPr/>
        </p:nvSpPr>
        <p:spPr>
          <a:xfrm>
            <a:off x="2895480" y="3430440"/>
            <a:ext cx="5922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Text Box 17"/>
          <p:cNvSpPr/>
          <p:nvPr/>
        </p:nvSpPr>
        <p:spPr>
          <a:xfrm>
            <a:off x="2378160" y="3962520"/>
            <a:ext cx="593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Text Box 18"/>
          <p:cNvSpPr/>
          <p:nvPr/>
        </p:nvSpPr>
        <p:spPr>
          <a:xfrm>
            <a:off x="2835360" y="3962520"/>
            <a:ext cx="59364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Text Box 19"/>
          <p:cNvSpPr/>
          <p:nvPr/>
        </p:nvSpPr>
        <p:spPr>
          <a:xfrm>
            <a:off x="2149560" y="5105520"/>
            <a:ext cx="59364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Text Box 20"/>
          <p:cNvSpPr/>
          <p:nvPr/>
        </p:nvSpPr>
        <p:spPr>
          <a:xfrm>
            <a:off x="2530440" y="5108400"/>
            <a:ext cx="593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Text Box 21"/>
          <p:cNvSpPr/>
          <p:nvPr/>
        </p:nvSpPr>
        <p:spPr>
          <a:xfrm>
            <a:off x="2057400" y="5562720"/>
            <a:ext cx="59220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Text Box 22"/>
          <p:cNvSpPr/>
          <p:nvPr/>
        </p:nvSpPr>
        <p:spPr>
          <a:xfrm>
            <a:off x="2530440" y="5562720"/>
            <a:ext cx="59364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Line 25"/>
          <p:cNvSpPr/>
          <p:nvPr/>
        </p:nvSpPr>
        <p:spPr>
          <a:xfrm flipH="1">
            <a:off x="2209320" y="2743200"/>
            <a:ext cx="838440" cy="3886200"/>
          </a:xfrm>
          <a:prstGeom prst="line">
            <a:avLst/>
          </a:prstGeom>
          <a:ln w="38160">
            <a:solidFill>
              <a:srgbClr val="cc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AutoShape 26"/>
          <p:cNvSpPr/>
          <p:nvPr/>
        </p:nvSpPr>
        <p:spPr>
          <a:xfrm rot="14803200">
            <a:off x="2208600" y="3713400"/>
            <a:ext cx="1009800" cy="820440"/>
          </a:xfrm>
          <a:custGeom>
            <a:avLst/>
            <a:gdLst>
              <a:gd name="textAreaLeft" fmla="*/ 147240 w 1009800"/>
              <a:gd name="textAreaRight" fmla="*/ 862560 w 1009800"/>
              <a:gd name="textAreaTop" fmla="*/ 0 h 820440"/>
              <a:gd name="textAreaBottom" fmla="*/ 162360 h 820440"/>
            </a:gdLst>
            <a:ahLst/>
            <a:rect l="textAreaLeft" t="textAreaTop" r="textAreaRight" b="textAreaBottom"/>
            <a:pathLst>
              <a:path w="21600" h="21600">
                <a:moveTo>
                  <a:pt x="5676" y="3115"/>
                </a:moveTo>
                <a:cubicBezTo>
                  <a:pt x="7193" y="2103"/>
                  <a:pt x="8976" y="1563"/>
                  <a:pt x="10800" y="1564"/>
                </a:cubicBezTo>
                <a:cubicBezTo>
                  <a:pt x="12623" y="1564"/>
                  <a:pt x="14406" y="2103"/>
                  <a:pt x="15923" y="3115"/>
                </a:cubicBezTo>
                <a:lnTo>
                  <a:pt x="16791" y="1814"/>
                </a:lnTo>
                <a:cubicBezTo>
                  <a:pt x="15017" y="631"/>
                  <a:pt x="12932" y="-1"/>
                  <a:pt x="10799" y="0"/>
                </a:cubicBezTo>
                <a:cubicBezTo>
                  <a:pt x="8667" y="0"/>
                  <a:pt x="6582" y="631"/>
                  <a:pt x="4808" y="1814"/>
                </a:cubicBezTo>
                <a:lnTo>
                  <a:pt x="5676" y="3115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AutoShape 27"/>
          <p:cNvSpPr/>
          <p:nvPr/>
        </p:nvSpPr>
        <p:spPr>
          <a:xfrm rot="3543600">
            <a:off x="1969200" y="4888440"/>
            <a:ext cx="990360" cy="966960"/>
          </a:xfrm>
          <a:custGeom>
            <a:avLst/>
            <a:gdLst>
              <a:gd name="textAreaLeft" fmla="*/ 156960 w 990360"/>
              <a:gd name="textAreaRight" fmla="*/ 833400 w 990360"/>
              <a:gd name="textAreaTop" fmla="*/ 0 h 966960"/>
              <a:gd name="textAreaBottom" fmla="*/ 172800 h 966960"/>
            </a:gdLst>
            <a:ahLst/>
            <a:rect l="textAreaLeft" t="textAreaTop" r="textAreaRight" b="textAreaBottom"/>
            <a:pathLst>
              <a:path w="21600" h="21600">
                <a:moveTo>
                  <a:pt x="5796" y="2735"/>
                </a:moveTo>
                <a:cubicBezTo>
                  <a:pt x="7298" y="1802"/>
                  <a:pt x="9031" y="1308"/>
                  <a:pt x="10800" y="1309"/>
                </a:cubicBezTo>
                <a:cubicBezTo>
                  <a:pt x="12568" y="1309"/>
                  <a:pt x="14301" y="1802"/>
                  <a:pt x="15803" y="2735"/>
                </a:cubicBezTo>
                <a:lnTo>
                  <a:pt x="16493" y="1622"/>
                </a:lnTo>
                <a:cubicBezTo>
                  <a:pt x="14784" y="562"/>
                  <a:pt x="12812" y="-1"/>
                  <a:pt x="10799" y="0"/>
                </a:cubicBezTo>
                <a:cubicBezTo>
                  <a:pt x="8787" y="0"/>
                  <a:pt x="6815" y="562"/>
                  <a:pt x="5106" y="1622"/>
                </a:cubicBezTo>
                <a:lnTo>
                  <a:pt x="5796" y="2735"/>
                </a:lnTo>
                <a:close/>
              </a:path>
            </a:pathLst>
          </a:custGeom>
          <a:solidFill>
            <a:srgbClr val="00990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AutoShape 28"/>
          <p:cNvSpPr/>
          <p:nvPr/>
        </p:nvSpPr>
        <p:spPr>
          <a:xfrm rot="7743600">
            <a:off x="2284920" y="3713760"/>
            <a:ext cx="1009800" cy="820800"/>
          </a:xfrm>
          <a:custGeom>
            <a:avLst/>
            <a:gdLst>
              <a:gd name="textAreaLeft" fmla="*/ 147240 w 1009800"/>
              <a:gd name="textAreaRight" fmla="*/ 862560 w 1009800"/>
              <a:gd name="textAreaTop" fmla="*/ 0 h 820800"/>
              <a:gd name="textAreaBottom" fmla="*/ 162720 h 820800"/>
            </a:gdLst>
            <a:ahLst/>
            <a:rect l="textAreaLeft" t="textAreaTop" r="textAreaRight" b="textAreaBottom"/>
            <a:pathLst>
              <a:path w="21600" h="21600">
                <a:moveTo>
                  <a:pt x="5676" y="3115"/>
                </a:moveTo>
                <a:cubicBezTo>
                  <a:pt x="7193" y="2103"/>
                  <a:pt x="8976" y="1563"/>
                  <a:pt x="10800" y="1564"/>
                </a:cubicBezTo>
                <a:cubicBezTo>
                  <a:pt x="12623" y="1564"/>
                  <a:pt x="14406" y="2103"/>
                  <a:pt x="15923" y="3115"/>
                </a:cubicBezTo>
                <a:lnTo>
                  <a:pt x="16791" y="1814"/>
                </a:lnTo>
                <a:cubicBezTo>
                  <a:pt x="15017" y="631"/>
                  <a:pt x="12932" y="-1"/>
                  <a:pt x="10799" y="0"/>
                </a:cubicBezTo>
                <a:cubicBezTo>
                  <a:pt x="8667" y="0"/>
                  <a:pt x="6582" y="631"/>
                  <a:pt x="4808" y="1814"/>
                </a:cubicBezTo>
                <a:lnTo>
                  <a:pt x="5676" y="3115"/>
                </a:lnTo>
                <a:close/>
              </a:path>
            </a:pathLst>
          </a:cu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AutoShape 29"/>
          <p:cNvSpPr/>
          <p:nvPr/>
        </p:nvSpPr>
        <p:spPr>
          <a:xfrm rot="18088800">
            <a:off x="2045880" y="4888080"/>
            <a:ext cx="990360" cy="966960"/>
          </a:xfrm>
          <a:custGeom>
            <a:avLst/>
            <a:gdLst>
              <a:gd name="textAreaLeft" fmla="*/ 156960 w 990360"/>
              <a:gd name="textAreaRight" fmla="*/ 833400 w 990360"/>
              <a:gd name="textAreaTop" fmla="*/ 0 h 966960"/>
              <a:gd name="textAreaBottom" fmla="*/ 172800 h 966960"/>
            </a:gdLst>
            <a:ahLst/>
            <a:rect l="textAreaLeft" t="textAreaTop" r="textAreaRight" b="textAreaBottom"/>
            <a:pathLst>
              <a:path w="21600" h="21600">
                <a:moveTo>
                  <a:pt x="5796" y="2735"/>
                </a:moveTo>
                <a:cubicBezTo>
                  <a:pt x="7298" y="1802"/>
                  <a:pt x="9031" y="1308"/>
                  <a:pt x="10800" y="1309"/>
                </a:cubicBezTo>
                <a:cubicBezTo>
                  <a:pt x="12568" y="1309"/>
                  <a:pt x="14301" y="1802"/>
                  <a:pt x="15803" y="2735"/>
                </a:cubicBezTo>
                <a:lnTo>
                  <a:pt x="16493" y="1622"/>
                </a:lnTo>
                <a:cubicBezTo>
                  <a:pt x="14784" y="562"/>
                  <a:pt x="12812" y="-1"/>
                  <a:pt x="10799" y="0"/>
                </a:cubicBezTo>
                <a:cubicBezTo>
                  <a:pt x="8787" y="0"/>
                  <a:pt x="6815" y="562"/>
                  <a:pt x="5106" y="1622"/>
                </a:cubicBezTo>
                <a:lnTo>
                  <a:pt x="5796" y="2735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0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2" dur="8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3" dur="8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4" dur="8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nodeType="afterEffect" fill="hold">
                            <p:stCondLst>
                              <p:cond delay="4250"/>
                            </p:stCondLst>
                            <p:childTnLst>
                              <p:par>
                                <p:cTn id="5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9" dur="50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" nodeType="with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3" dur="5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6" nodeType="with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7" dur="500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0" nodeType="with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1" dur="500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2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2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2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Rectangle 2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58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d the measures of the missing angl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8" name="AutoShape 4"/>
          <p:cNvSpPr/>
          <p:nvPr/>
        </p:nvSpPr>
        <p:spPr>
          <a:xfrm>
            <a:off x="2590920" y="2847960"/>
            <a:ext cx="320040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Line 5"/>
          <p:cNvSpPr/>
          <p:nvPr/>
        </p:nvSpPr>
        <p:spPr>
          <a:xfrm flipH="1">
            <a:off x="4012920" y="2847960"/>
            <a:ext cx="639720" cy="3171960"/>
          </a:xfrm>
          <a:prstGeom prst="line">
            <a:avLst/>
          </a:prstGeom>
          <a:ln w="38160">
            <a:solidFill>
              <a:srgbClr val="e4005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Line 6"/>
          <p:cNvSpPr/>
          <p:nvPr/>
        </p:nvSpPr>
        <p:spPr>
          <a:xfrm>
            <a:off x="2666880" y="3914640"/>
            <a:ext cx="3124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Text Box 8"/>
          <p:cNvSpPr/>
          <p:nvPr/>
        </p:nvSpPr>
        <p:spPr>
          <a:xfrm>
            <a:off x="4524480" y="3459240"/>
            <a:ext cx="5922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Text Box 9"/>
          <p:cNvSpPr/>
          <p:nvPr/>
        </p:nvSpPr>
        <p:spPr>
          <a:xfrm>
            <a:off x="4282920" y="4422600"/>
            <a:ext cx="5940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Text Box 10"/>
          <p:cNvSpPr/>
          <p:nvPr/>
        </p:nvSpPr>
        <p:spPr>
          <a:xfrm>
            <a:off x="2666880" y="4724280"/>
            <a:ext cx="5940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Text Box 11"/>
          <p:cNvSpPr/>
          <p:nvPr/>
        </p:nvSpPr>
        <p:spPr>
          <a:xfrm>
            <a:off x="4206960" y="4905360"/>
            <a:ext cx="593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Line 12"/>
          <p:cNvSpPr/>
          <p:nvPr/>
        </p:nvSpPr>
        <p:spPr>
          <a:xfrm>
            <a:off x="2743200" y="4829040"/>
            <a:ext cx="312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Text Box 13"/>
          <p:cNvSpPr/>
          <p:nvPr/>
        </p:nvSpPr>
        <p:spPr>
          <a:xfrm>
            <a:off x="4649400" y="2546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40059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Text Box 14"/>
          <p:cNvSpPr/>
          <p:nvPr/>
        </p:nvSpPr>
        <p:spPr>
          <a:xfrm>
            <a:off x="4437000" y="3886200"/>
            <a:ext cx="89712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35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Text Box 15"/>
          <p:cNvSpPr/>
          <p:nvPr/>
        </p:nvSpPr>
        <p:spPr>
          <a:xfrm>
            <a:off x="4343400" y="4419720"/>
            <a:ext cx="990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5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Text Box 16"/>
          <p:cNvSpPr/>
          <p:nvPr/>
        </p:nvSpPr>
        <p:spPr>
          <a:xfrm>
            <a:off x="6172200" y="3505320"/>
            <a:ext cx="213372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40059"/>
                </a:solidFill>
                <a:latin typeface="Arial"/>
              </a:rPr>
              <a:t>180 - 13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3" dur="500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Rectangle 2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66"/>
                </a:solidFill>
                <a:latin typeface="Century Gothic"/>
              </a:rPr>
              <a:t>Def: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line that do not intersect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66"/>
                </a:solidFill>
                <a:latin typeface="Century Gothic"/>
              </a:rPr>
              <a:t>Illustration: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66"/>
                </a:solidFill>
                <a:latin typeface="Century Gothic"/>
              </a:rPr>
              <a:t>Notation: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      </a:t>
            </a:r>
            <a:r>
              <a:rPr b="0" lang="en-US" sz="3000" spc="-1" strike="noStrike">
                <a:solidFill>
                  <a:srgbClr val="e40059"/>
                </a:solidFill>
                <a:latin typeface="Mistral"/>
              </a:rPr>
              <a:t>l </a:t>
            </a:r>
            <a:r>
              <a:rPr b="0" lang="en-US" sz="3000" spc="-1" strike="noStrike">
                <a:solidFill>
                  <a:srgbClr val="e40059"/>
                </a:solidFill>
                <a:latin typeface="Century Gothic"/>
              </a:rPr>
              <a:t>|| </a:t>
            </a:r>
            <a:r>
              <a:rPr b="0" lang="en-US" sz="2800" spc="-1" strike="noStrike">
                <a:solidFill>
                  <a:srgbClr val="e40059"/>
                </a:solidFill>
                <a:latin typeface="Tempus Sans ITC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                   </a:t>
            </a:r>
            <a:r>
              <a:rPr b="1" i="1" lang="en-US" sz="3000" spc="-1" strike="noStrike">
                <a:solidFill>
                  <a:srgbClr val="009900"/>
                </a:solidFill>
                <a:latin typeface="Bradley Hand ITC"/>
              </a:rPr>
              <a:t>AB</a:t>
            </a:r>
            <a:r>
              <a:rPr b="0" lang="en-US" sz="3000" spc="-1" strike="noStrike">
                <a:solidFill>
                  <a:srgbClr val="009900"/>
                </a:solidFill>
                <a:latin typeface="Mistral"/>
              </a:rPr>
              <a:t> </a:t>
            </a:r>
            <a:r>
              <a:rPr b="0" lang="en-US" sz="3000" spc="-1" strike="noStrike">
                <a:solidFill>
                  <a:srgbClr val="009900"/>
                </a:solidFill>
                <a:latin typeface="Century Gothic"/>
              </a:rPr>
              <a:t>|| </a:t>
            </a:r>
            <a:r>
              <a:rPr b="1" lang="en-US" sz="3000" spc="-1" strike="noStrike">
                <a:solidFill>
                  <a:srgbClr val="009900"/>
                </a:solidFill>
                <a:latin typeface="Bradley Hand ITC"/>
              </a:rPr>
              <a:t>C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313" name="Group 33"/>
          <p:cNvGrpSpPr/>
          <p:nvPr/>
        </p:nvGrpSpPr>
        <p:grpSpPr>
          <a:xfrm>
            <a:off x="2041560" y="3459240"/>
            <a:ext cx="2759040" cy="963000"/>
            <a:chOff x="2041560" y="3459240"/>
            <a:chExt cx="2759040" cy="963000"/>
          </a:xfrm>
        </p:grpSpPr>
        <p:grpSp>
          <p:nvGrpSpPr>
            <p:cNvPr id="314" name="Group 12"/>
            <p:cNvGrpSpPr/>
            <p:nvPr/>
          </p:nvGrpSpPr>
          <p:grpSpPr>
            <a:xfrm>
              <a:off x="2438280" y="3733920"/>
              <a:ext cx="2362320" cy="457200"/>
              <a:chOff x="2438280" y="3733920"/>
              <a:chExt cx="2362320" cy="457200"/>
            </a:xfrm>
          </p:grpSpPr>
          <p:sp>
            <p:nvSpPr>
              <p:cNvPr id="315" name="Line 4"/>
              <p:cNvSpPr/>
              <p:nvPr/>
            </p:nvSpPr>
            <p:spPr>
              <a:xfrm>
                <a:off x="2438280" y="3733920"/>
                <a:ext cx="23623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Line 5"/>
              <p:cNvSpPr/>
              <p:nvPr/>
            </p:nvSpPr>
            <p:spPr>
              <a:xfrm>
                <a:off x="2438280" y="4191120"/>
                <a:ext cx="23623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7" name="Text Box 13"/>
            <p:cNvSpPr/>
            <p:nvPr/>
          </p:nvSpPr>
          <p:spPr>
            <a:xfrm>
              <a:off x="2193840" y="3459240"/>
              <a:ext cx="39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e40059"/>
                  </a:solidFill>
                  <a:latin typeface="Mistral"/>
                </a:rPr>
                <a:t>l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Text Box 14"/>
            <p:cNvSpPr/>
            <p:nvPr/>
          </p:nvSpPr>
          <p:spPr>
            <a:xfrm>
              <a:off x="2041560" y="3962520"/>
              <a:ext cx="62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e40059"/>
                  </a:solidFill>
                  <a:latin typeface="Tempus Sans ITC"/>
                </a:rPr>
                <a:t>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AutoShape 28"/>
            <p:cNvSpPr/>
            <p:nvPr/>
          </p:nvSpPr>
          <p:spPr>
            <a:xfrm rot="5400000">
              <a:off x="4114440" y="3657600"/>
              <a:ext cx="304920" cy="152280"/>
            </a:xfrm>
            <a:prstGeom prst="triangle">
              <a:avLst>
                <a:gd name="adj" fmla="val 50000"/>
              </a:avLst>
            </a:prstGeom>
            <a:solidFill>
              <a:srgbClr val="ff388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AutoShape 29"/>
            <p:cNvSpPr/>
            <p:nvPr/>
          </p:nvSpPr>
          <p:spPr>
            <a:xfrm rot="5400000">
              <a:off x="4114440" y="4114800"/>
              <a:ext cx="304920" cy="152280"/>
            </a:xfrm>
            <a:prstGeom prst="triangle">
              <a:avLst>
                <a:gd name="adj" fmla="val 50000"/>
              </a:avLst>
            </a:prstGeom>
            <a:solidFill>
              <a:srgbClr val="ff388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Group 34"/>
          <p:cNvGrpSpPr/>
          <p:nvPr/>
        </p:nvGrpSpPr>
        <p:grpSpPr>
          <a:xfrm>
            <a:off x="5943600" y="2527200"/>
            <a:ext cx="2301480" cy="2578320"/>
            <a:chOff x="5943600" y="2527200"/>
            <a:chExt cx="2301480" cy="2578320"/>
          </a:xfrm>
        </p:grpSpPr>
        <p:grpSp>
          <p:nvGrpSpPr>
            <p:cNvPr id="322" name="Group 25"/>
            <p:cNvGrpSpPr/>
            <p:nvPr/>
          </p:nvGrpSpPr>
          <p:grpSpPr>
            <a:xfrm>
              <a:off x="6172200" y="2527200"/>
              <a:ext cx="2072880" cy="2047320"/>
              <a:chOff x="6172200" y="2527200"/>
              <a:chExt cx="2072880" cy="2047320"/>
            </a:xfrm>
          </p:grpSpPr>
          <p:grpSp>
            <p:nvGrpSpPr>
              <p:cNvPr id="323" name="Group 8"/>
              <p:cNvGrpSpPr/>
              <p:nvPr/>
            </p:nvGrpSpPr>
            <p:grpSpPr>
              <a:xfrm>
                <a:off x="6186240" y="2527200"/>
                <a:ext cx="2029320" cy="1956240"/>
                <a:chOff x="6186240" y="2527200"/>
                <a:chExt cx="2029320" cy="1956240"/>
              </a:xfrm>
            </p:grpSpPr>
            <p:sp>
              <p:nvSpPr>
                <p:cNvPr id="324" name="Line 6"/>
                <p:cNvSpPr/>
                <p:nvPr/>
              </p:nvSpPr>
              <p:spPr>
                <a:xfrm flipV="1">
                  <a:off x="6186240" y="2527200"/>
                  <a:ext cx="1714680" cy="16243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  <a:headEnd len="med" type="arrow" w="med"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" name="Line 7"/>
                <p:cNvSpPr/>
                <p:nvPr/>
              </p:nvSpPr>
              <p:spPr>
                <a:xfrm flipV="1">
                  <a:off x="6500880" y="2859120"/>
                  <a:ext cx="1714680" cy="16243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  <a:headEnd len="med" type="arrow" w="med"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6" name="Oval 15"/>
              <p:cNvSpPr/>
              <p:nvPr/>
            </p:nvSpPr>
            <p:spPr>
              <a:xfrm>
                <a:off x="6629400" y="3657600"/>
                <a:ext cx="75600" cy="76320"/>
              </a:xfrm>
              <a:prstGeom prst="ellipse">
                <a:avLst/>
              </a:prstGeom>
              <a:solidFill>
                <a:srgbClr val="ff388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Oval 16"/>
              <p:cNvSpPr/>
              <p:nvPr/>
            </p:nvSpPr>
            <p:spPr>
              <a:xfrm>
                <a:off x="7391160" y="2895480"/>
                <a:ext cx="75960" cy="76320"/>
              </a:xfrm>
              <a:prstGeom prst="ellipse">
                <a:avLst/>
              </a:prstGeom>
              <a:solidFill>
                <a:srgbClr val="ff388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Oval 18"/>
              <p:cNvSpPr/>
              <p:nvPr/>
            </p:nvSpPr>
            <p:spPr>
              <a:xfrm>
                <a:off x="6858000" y="4114800"/>
                <a:ext cx="75600" cy="76320"/>
              </a:xfrm>
              <a:prstGeom prst="ellipse">
                <a:avLst/>
              </a:prstGeom>
              <a:solidFill>
                <a:srgbClr val="ff388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Oval 19"/>
              <p:cNvSpPr/>
              <p:nvPr/>
            </p:nvSpPr>
            <p:spPr>
              <a:xfrm>
                <a:off x="7619760" y="3352680"/>
                <a:ext cx="75960" cy="76320"/>
              </a:xfrm>
              <a:prstGeom prst="ellipse">
                <a:avLst/>
              </a:prstGeom>
              <a:solidFill>
                <a:srgbClr val="ff388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Text Box 20"/>
              <p:cNvSpPr/>
              <p:nvPr/>
            </p:nvSpPr>
            <p:spPr>
              <a:xfrm>
                <a:off x="6172200" y="3352680"/>
                <a:ext cx="624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9900"/>
                    </a:solidFill>
                    <a:latin typeface="Bradley Hand ITC"/>
                  </a:rPr>
                  <a:t>A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Text Box 21"/>
              <p:cNvSpPr/>
              <p:nvPr/>
            </p:nvSpPr>
            <p:spPr>
              <a:xfrm>
                <a:off x="7086600" y="2590920"/>
                <a:ext cx="624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9900"/>
                    </a:solidFill>
                    <a:latin typeface="Bradley Hand ITC"/>
                  </a:rPr>
                  <a:t>B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Text Box 22"/>
              <p:cNvSpPr/>
              <p:nvPr/>
            </p:nvSpPr>
            <p:spPr>
              <a:xfrm>
                <a:off x="6705360" y="4114800"/>
                <a:ext cx="625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9900"/>
                    </a:solidFill>
                    <a:latin typeface="Bradley Hand ITC"/>
                  </a:rPr>
                  <a:t>C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Text Box 23"/>
              <p:cNvSpPr/>
              <p:nvPr/>
            </p:nvSpPr>
            <p:spPr>
              <a:xfrm>
                <a:off x="7619760" y="3352680"/>
                <a:ext cx="625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9900"/>
                    </a:solidFill>
                    <a:latin typeface="Bradley Hand ITC"/>
                  </a:rPr>
                  <a:t>D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4" name="Line 26"/>
            <p:cNvSpPr/>
            <p:nvPr/>
          </p:nvSpPr>
          <p:spPr>
            <a:xfrm>
              <a:off x="5943600" y="5105520"/>
              <a:ext cx="457200" cy="0"/>
            </a:xfrm>
            <a:prstGeom prst="line">
              <a:avLst/>
            </a:prstGeom>
            <a:ln w="9360">
              <a:solidFill>
                <a:srgbClr val="0099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Line 27"/>
            <p:cNvSpPr/>
            <p:nvPr/>
          </p:nvSpPr>
          <p:spPr>
            <a:xfrm>
              <a:off x="6858000" y="5105520"/>
              <a:ext cx="457200" cy="0"/>
            </a:xfrm>
            <a:prstGeom prst="line">
              <a:avLst/>
            </a:prstGeom>
            <a:ln w="9360">
              <a:solidFill>
                <a:srgbClr val="0099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6" name="Group 32"/>
            <p:cNvGrpSpPr/>
            <p:nvPr/>
          </p:nvGrpSpPr>
          <p:grpSpPr>
            <a:xfrm>
              <a:off x="7515360" y="2604240"/>
              <a:ext cx="513360" cy="735480"/>
              <a:chOff x="7515360" y="2604240"/>
              <a:chExt cx="513360" cy="735480"/>
            </a:xfrm>
          </p:grpSpPr>
          <p:sp>
            <p:nvSpPr>
              <p:cNvPr id="337" name="AutoShape 30"/>
              <p:cNvSpPr/>
              <p:nvPr/>
            </p:nvSpPr>
            <p:spPr>
              <a:xfrm rot="3596400">
                <a:off x="7504920" y="2697840"/>
                <a:ext cx="304560" cy="152280"/>
              </a:xfrm>
              <a:prstGeom prst="triangle">
                <a:avLst>
                  <a:gd name="adj" fmla="val 50000"/>
                </a:avLst>
              </a:prstGeom>
              <a:solidFill>
                <a:srgbClr val="ff388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AutoShape 31"/>
              <p:cNvSpPr/>
              <p:nvPr/>
            </p:nvSpPr>
            <p:spPr>
              <a:xfrm rot="3596400">
                <a:off x="7733880" y="3093480"/>
                <a:ext cx="304560" cy="152280"/>
              </a:xfrm>
              <a:prstGeom prst="triangle">
                <a:avLst>
                  <a:gd name="adj" fmla="val 50000"/>
                </a:avLst>
              </a:prstGeom>
              <a:solidFill>
                <a:srgbClr val="ff388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60"/>
                            </p:stCondLst>
                            <p:childTnLst>
                              <p:par>
                                <p:cTn id="1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2860"/>
                            </p:stCondLst>
                            <p:childTnLst>
                              <p:par>
                                <p:cTn id="1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4460"/>
                            </p:stCondLst>
                            <p:childTnLst>
                              <p:par>
                                <p:cTn id="2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Title 1" descr=""/>
          <p:cNvPicPr/>
          <p:nvPr/>
        </p:nvPicPr>
        <p:blipFill>
          <a:blip r:embed="rId1"/>
          <a:stretch/>
        </p:blipFill>
        <p:spPr>
          <a:xfrm>
            <a:off x="542880" y="774720"/>
            <a:ext cx="8319960" cy="1760400"/>
          </a:xfrm>
          <a:prstGeom prst="rect">
            <a:avLst/>
          </a:prstGeom>
          <a:ln w="0">
            <a:noFill/>
          </a:ln>
        </p:spPr>
      </p:pic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541440" y="2249640"/>
            <a:ext cx="8061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602" name="Picture 3" descr="C:\Program Files (x86)\Microsoft Office\MEDIA\CAGCAT10\j0205582.wmf"/>
          <p:cNvPicPr/>
          <p:nvPr/>
        </p:nvPicPr>
        <p:blipFill>
          <a:blip r:embed="rId2"/>
          <a:stretch/>
        </p:blipFill>
        <p:spPr>
          <a:xfrm>
            <a:off x="5359320" y="2666880"/>
            <a:ext cx="3784680" cy="449604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6" descr="C:\Program Files (x86)\Microsoft Office\MEDIA\CAGCAT10\j0299125.wmf"/>
          <p:cNvPicPr/>
          <p:nvPr/>
        </p:nvPicPr>
        <p:blipFill>
          <a:blip r:embed="rId3"/>
          <a:stretch/>
        </p:blipFill>
        <p:spPr>
          <a:xfrm>
            <a:off x="1905120" y="304920"/>
            <a:ext cx="2395440" cy="3930480"/>
          </a:xfrm>
          <a:prstGeom prst="rect">
            <a:avLst/>
          </a:prstGeom>
          <a:ln w="0">
            <a:noFill/>
          </a:ln>
        </p:spPr>
      </p:pic>
      <p:sp>
        <p:nvSpPr>
          <p:cNvPr id="604" name="Rectangular Callout 8"/>
          <p:cNvSpPr/>
          <p:nvPr/>
        </p:nvSpPr>
        <p:spPr>
          <a:xfrm>
            <a:off x="4191120" y="1295280"/>
            <a:ext cx="4495680" cy="990720"/>
          </a:xfrm>
          <a:prstGeom prst="wedgeRectCallout">
            <a:avLst>
              <a:gd name="adj1" fmla="val -46981"/>
              <a:gd name="adj2" fmla="val 127115"/>
            </a:avLst>
          </a:prstGeom>
          <a:solidFill>
            <a:srgbClr val="ffffff"/>
          </a:solidFill>
          <a:ln w="25560">
            <a:solidFill>
              <a:srgbClr val="003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TextBox 9"/>
          <p:cNvSpPr/>
          <p:nvPr/>
        </p:nvSpPr>
        <p:spPr>
          <a:xfrm>
            <a:off x="4191120" y="14479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HANK YOU  </a:t>
            </a:r>
            <a:r>
              <a:rPr b="0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8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2d2d2"/>
                </a:solidFill>
                <a:latin typeface="Arial"/>
              </a:rPr>
              <a:t>Examples of Parallel Lin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Rectangle 9"/>
          <p:cNvSpPr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8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Hardwood Flo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8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Opposite sides of windows, desks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8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Parking slots in parking l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8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Parallel Par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8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8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1" name="Picture 10" descr="j0212957"/>
          <p:cNvPicPr/>
          <p:nvPr/>
        </p:nvPicPr>
        <p:blipFill>
          <a:blip r:embed="rId1"/>
          <a:stretch/>
        </p:blipFill>
        <p:spPr>
          <a:xfrm>
            <a:off x="7467480" y="1143000"/>
            <a:ext cx="1220760" cy="76680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13" descr="parab"/>
          <p:cNvPicPr/>
          <p:nvPr/>
        </p:nvPicPr>
        <p:blipFill>
          <a:blip r:embed="rId2"/>
          <a:stretch/>
        </p:blipFill>
        <p:spPr>
          <a:xfrm>
            <a:off x="6553080" y="2819520"/>
            <a:ext cx="2409840" cy="380988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7" descr="St"/>
          <p:cNvPicPr/>
          <p:nvPr/>
        </p:nvPicPr>
        <p:blipFill>
          <a:blip r:embed="rId3"/>
          <a:srcRect l="0" t="25019" r="0" b="0"/>
          <a:stretch/>
        </p:blipFill>
        <p:spPr>
          <a:xfrm>
            <a:off x="990720" y="4572000"/>
            <a:ext cx="3295440" cy="18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960"/>
                            </p:stCondLst>
                            <p:childTnLst>
                              <p:par>
                                <p:cTn id="4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2d2d2"/>
                </a:solidFill>
                <a:latin typeface="Arial"/>
              </a:rPr>
              <a:t>Examples of Parallel Lin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Rectangle 3"/>
          <p:cNvSpPr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8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8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8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LINE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Tempus Sans ITC"/>
              </a:rPr>
              <a:t>LINE 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Tempus Sans ITC"/>
              </a:rPr>
              <a:t>HERE LINE A and LINE B Are PARALL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Line 9"/>
          <p:cNvSpPr/>
          <p:nvPr/>
        </p:nvSpPr>
        <p:spPr>
          <a:xfrm>
            <a:off x="1066680" y="4114800"/>
            <a:ext cx="52578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Line 10"/>
          <p:cNvSpPr/>
          <p:nvPr/>
        </p:nvSpPr>
        <p:spPr>
          <a:xfrm>
            <a:off x="990720" y="3048120"/>
            <a:ext cx="52578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Rectangle 2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 txBox="1"/>
          <p:nvPr/>
        </p:nvSpPr>
        <p:spPr>
          <a:xfrm>
            <a:off x="456840" y="16002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66"/>
                </a:solidFill>
                <a:latin typeface="Century Gothic"/>
              </a:rPr>
              <a:t>Def: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Lines that intersect to form a right angle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66"/>
                </a:solidFill>
                <a:latin typeface="Century Gothic"/>
              </a:rPr>
              <a:t>Illustration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66"/>
                </a:solidFill>
                <a:latin typeface="Century Gothic"/>
              </a:rPr>
              <a:t>Notation: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i="1" lang="en-US" sz="3000" spc="-1" strike="noStrike">
                <a:solidFill>
                  <a:srgbClr val="e40059"/>
                </a:solidFill>
                <a:latin typeface="Arial Black"/>
              </a:rPr>
              <a:t>m</a:t>
            </a:r>
            <a:r>
              <a:rPr b="0" lang="en-US" sz="3000" spc="-1" strike="noStrike">
                <a:solidFill>
                  <a:srgbClr val="e40059"/>
                </a:solidFill>
                <a:latin typeface="Century Gothic"/>
              </a:rPr>
              <a:t> </a:t>
            </a:r>
            <a:r>
              <a:rPr b="0" lang="en-US" sz="3000" spc="-1" strike="noStrike">
                <a:solidFill>
                  <a:srgbClr val="e40059"/>
                </a:solidFill>
                <a:latin typeface="Symbol"/>
                <a:ea typeface="Symbol"/>
              </a:rPr>
              <a:t></a:t>
            </a:r>
            <a:r>
              <a:rPr b="0" lang="en-US" sz="3000" spc="-1" strike="noStrike">
                <a:solidFill>
                  <a:srgbClr val="e40059"/>
                </a:solidFill>
                <a:latin typeface="Century Gothic"/>
              </a:rPr>
              <a:t> </a:t>
            </a:r>
            <a:r>
              <a:rPr b="0" i="1" lang="en-US" sz="3000" spc="-1" strike="noStrike">
                <a:solidFill>
                  <a:srgbClr val="e40059"/>
                </a:solidFill>
                <a:latin typeface="Arial Black"/>
              </a:rPr>
              <a:t>n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66"/>
                </a:solidFill>
                <a:latin typeface="Century Gothic"/>
              </a:rPr>
              <a:t>Key Fact: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4 right angles are formed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350" name="Group 10"/>
          <p:cNvGrpSpPr/>
          <p:nvPr/>
        </p:nvGrpSpPr>
        <p:grpSpPr>
          <a:xfrm>
            <a:off x="3962520" y="2133720"/>
            <a:ext cx="2759040" cy="2666880"/>
            <a:chOff x="3962520" y="2133720"/>
            <a:chExt cx="2759040" cy="2666880"/>
          </a:xfrm>
        </p:grpSpPr>
        <p:sp>
          <p:nvSpPr>
            <p:cNvPr id="351" name="Line 5"/>
            <p:cNvSpPr/>
            <p:nvPr/>
          </p:nvSpPr>
          <p:spPr>
            <a:xfrm>
              <a:off x="3962520" y="3581280"/>
              <a:ext cx="23619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Line 6"/>
            <p:cNvSpPr/>
            <p:nvPr/>
          </p:nvSpPr>
          <p:spPr>
            <a:xfrm flipV="1">
              <a:off x="5181480" y="2438280"/>
              <a:ext cx="0" cy="2362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Rectangle 7"/>
            <p:cNvSpPr/>
            <p:nvPr/>
          </p:nvSpPr>
          <p:spPr>
            <a:xfrm>
              <a:off x="5181480" y="3352680"/>
              <a:ext cx="228600" cy="2286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Text Box 8"/>
            <p:cNvSpPr/>
            <p:nvPr/>
          </p:nvSpPr>
          <p:spPr>
            <a:xfrm>
              <a:off x="5241960" y="2133720"/>
              <a:ext cx="39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e40059"/>
                  </a:solidFill>
                  <a:latin typeface="Arial Black"/>
                </a:rPr>
                <a:t>m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Text Box 9"/>
            <p:cNvSpPr/>
            <p:nvPr/>
          </p:nvSpPr>
          <p:spPr>
            <a:xfrm>
              <a:off x="6324480" y="335268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e40059"/>
                  </a:solidFill>
                  <a:latin typeface="Arial Black"/>
                </a:rPr>
                <a:t>n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8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260"/>
                            </p:stCondLst>
                            <p:childTnLst>
                              <p:par>
                                <p:cTn id="10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4210"/>
                            </p:stCondLst>
                            <p:childTnLst>
                              <p:par>
                                <p:cTn id="10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810"/>
                            </p:stCondLst>
                            <p:childTnLst>
                              <p:par>
                                <p:cTn id="11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7360"/>
                            </p:stCondLst>
                            <p:childTnLst>
                              <p:par>
                                <p:cTn id="12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/>
          <p:cNvSpPr/>
          <p:nvPr/>
        </p:nvSpPr>
        <p:spPr>
          <a:xfrm>
            <a:off x="45720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2d2d2"/>
                </a:solidFill>
                <a:latin typeface="Arial"/>
              </a:rPr>
              <a:t>Ex. of Perpendicular Lin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80"/>
              </a:buClr>
              <a:buSzPct val="8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empus Sans ITC"/>
              </a:rPr>
              <a:t>Window panes : The Window Panes a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80"/>
              </a:buClr>
              <a:buSzPct val="8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empus Sans ITC"/>
              </a:rPr>
              <a:t>PERPENDICULAR to each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80"/>
              </a:buClr>
              <a:buSzPct val="8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80"/>
              </a:buClr>
              <a:buSzPct val="8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80"/>
              </a:buClr>
              <a:buSzPct val="8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80"/>
              </a:buClr>
              <a:buSzPct val="8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80"/>
              </a:buClr>
              <a:buSzPct val="8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8" name="Picture 10" descr="download (2).jpg"/>
          <p:cNvPicPr/>
          <p:nvPr/>
        </p:nvPicPr>
        <p:blipFill>
          <a:blip r:embed="rId1"/>
          <a:stretch/>
        </p:blipFill>
        <p:spPr>
          <a:xfrm>
            <a:off x="1295280" y="2590920"/>
            <a:ext cx="6172200" cy="3733560"/>
          </a:xfrm>
          <a:prstGeom prst="rect">
            <a:avLst/>
          </a:prstGeom>
          <a:ln w="0">
            <a:noFill/>
          </a:ln>
        </p:spPr>
      </p:pic>
      <p:sp>
        <p:nvSpPr>
          <p:cNvPr id="359" name="Right Arrow 11"/>
          <p:cNvSpPr/>
          <p:nvPr/>
        </p:nvSpPr>
        <p:spPr>
          <a:xfrm>
            <a:off x="2209680" y="2971800"/>
            <a:ext cx="609840" cy="380880"/>
          </a:xfrm>
          <a:prstGeom prst="rightArrow">
            <a:avLst>
              <a:gd name="adj1" fmla="val 50000"/>
              <a:gd name="adj2" fmla="val 50035"/>
            </a:avLst>
          </a:prstGeom>
          <a:solidFill>
            <a:srgbClr val="4e0021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Down Arrow 13"/>
          <p:cNvSpPr/>
          <p:nvPr/>
        </p:nvSpPr>
        <p:spPr>
          <a:xfrm>
            <a:off x="2133720" y="335268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960"/>
                            </p:stCondLst>
                            <p:childTnLst>
                              <p:par>
                                <p:cTn id="14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Group 16"/>
          <p:cNvGrpSpPr/>
          <p:nvPr/>
        </p:nvGrpSpPr>
        <p:grpSpPr>
          <a:xfrm>
            <a:off x="4114800" y="1652760"/>
            <a:ext cx="2946240" cy="2997000"/>
            <a:chOff x="4114800" y="1652760"/>
            <a:chExt cx="2946240" cy="2997000"/>
          </a:xfrm>
        </p:grpSpPr>
        <p:sp>
          <p:nvSpPr>
            <p:cNvPr id="362" name="Rectangle 14"/>
            <p:cNvSpPr/>
            <p:nvPr/>
          </p:nvSpPr>
          <p:spPr>
            <a:xfrm>
              <a:off x="5486400" y="1652760"/>
              <a:ext cx="1536840" cy="380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Rectangle 12"/>
            <p:cNvSpPr/>
            <p:nvPr/>
          </p:nvSpPr>
          <p:spPr>
            <a:xfrm rot="3000">
              <a:off x="4114440" y="3710160"/>
              <a:ext cx="2870280" cy="17604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Rectangle 13"/>
            <p:cNvSpPr/>
            <p:nvPr/>
          </p:nvSpPr>
          <p:spPr>
            <a:xfrm rot="3000">
              <a:off x="4190760" y="4471920"/>
              <a:ext cx="2869920" cy="17640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5" name="Group 15"/>
          <p:cNvGrpSpPr/>
          <p:nvPr/>
        </p:nvGrpSpPr>
        <p:grpSpPr>
          <a:xfrm>
            <a:off x="2057400" y="1676520"/>
            <a:ext cx="4099680" cy="3820680"/>
            <a:chOff x="2057400" y="1676520"/>
            <a:chExt cx="4099680" cy="3820680"/>
          </a:xfrm>
        </p:grpSpPr>
        <p:sp>
          <p:nvSpPr>
            <p:cNvPr id="366" name="Rectangle 9"/>
            <p:cNvSpPr/>
            <p:nvPr/>
          </p:nvSpPr>
          <p:spPr>
            <a:xfrm>
              <a:off x="2057400" y="1676520"/>
              <a:ext cx="68580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8b3e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Rectangle 10"/>
            <p:cNvSpPr/>
            <p:nvPr/>
          </p:nvSpPr>
          <p:spPr>
            <a:xfrm rot="17047800">
              <a:off x="4503240" y="4114440"/>
              <a:ext cx="2359080" cy="384120"/>
            </a:xfrm>
            <a:prstGeom prst="rect">
              <a:avLst/>
            </a:prstGeom>
            <a:solidFill>
              <a:srgbClr val="00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68" name="Rectangle 2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 txBox="1"/>
          <p:nvPr/>
        </p:nvSpPr>
        <p:spPr>
          <a:xfrm>
            <a:off x="457200" y="1569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66"/>
                </a:solidFill>
                <a:latin typeface="Century Gothic"/>
              </a:rPr>
              <a:t>Def: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a line that intersects two lines at different point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66"/>
                </a:solidFill>
                <a:latin typeface="Century Gothic"/>
              </a:rPr>
              <a:t>Illustration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66"/>
                </a:solidFill>
                <a:latin typeface="Century Gothic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0" name="Line 5"/>
          <p:cNvSpPr/>
          <p:nvPr/>
        </p:nvSpPr>
        <p:spPr>
          <a:xfrm flipH="1">
            <a:off x="5408640" y="3246480"/>
            <a:ext cx="550800" cy="2006640"/>
          </a:xfrm>
          <a:prstGeom prst="line">
            <a:avLst/>
          </a:prstGeom>
          <a:ln w="38160">
            <a:solidFill>
              <a:srgbClr val="e4005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Line 6"/>
          <p:cNvSpPr/>
          <p:nvPr/>
        </p:nvSpPr>
        <p:spPr>
          <a:xfrm flipV="1">
            <a:off x="4191120" y="4552560"/>
            <a:ext cx="2743200" cy="19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Line 7"/>
          <p:cNvSpPr/>
          <p:nvPr/>
        </p:nvSpPr>
        <p:spPr>
          <a:xfrm>
            <a:off x="4267080" y="380988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 Box 8"/>
          <p:cNvSpPr/>
          <p:nvPr/>
        </p:nvSpPr>
        <p:spPr>
          <a:xfrm>
            <a:off x="5924160" y="27464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0059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480"/>
                            </p:stCondLst>
                            <p:childTnLst>
                              <p:par>
                                <p:cTn id="15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3830"/>
                            </p:stCondLst>
                            <p:childTnLst>
                              <p:par>
                                <p:cTn id="16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5430"/>
                            </p:stCondLst>
                            <p:childTnLst>
                              <p:par>
                                <p:cTn id="17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638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688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738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788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Rectangle 2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wo angles that are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opposite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angles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6" name="AutoShape 5"/>
          <p:cNvSpPr/>
          <p:nvPr/>
        </p:nvSpPr>
        <p:spPr>
          <a:xfrm>
            <a:off x="838080" y="2847960"/>
            <a:ext cx="320040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Line 7"/>
          <p:cNvSpPr/>
          <p:nvPr/>
        </p:nvSpPr>
        <p:spPr>
          <a:xfrm flipH="1">
            <a:off x="2260440" y="2847960"/>
            <a:ext cx="640080" cy="3171960"/>
          </a:xfrm>
          <a:prstGeom prst="line">
            <a:avLst/>
          </a:prstGeom>
          <a:ln w="38160">
            <a:solidFill>
              <a:srgbClr val="e4005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Line 9"/>
          <p:cNvSpPr/>
          <p:nvPr/>
        </p:nvSpPr>
        <p:spPr>
          <a:xfrm>
            <a:off x="914400" y="3914640"/>
            <a:ext cx="312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 Box 10"/>
          <p:cNvSpPr/>
          <p:nvPr/>
        </p:nvSpPr>
        <p:spPr>
          <a:xfrm>
            <a:off x="2378160" y="3459240"/>
            <a:ext cx="5936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Text Box 11"/>
          <p:cNvSpPr/>
          <p:nvPr/>
        </p:nvSpPr>
        <p:spPr>
          <a:xfrm>
            <a:off x="2771640" y="3459240"/>
            <a:ext cx="5922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Text Box 12"/>
          <p:cNvSpPr/>
          <p:nvPr/>
        </p:nvSpPr>
        <p:spPr>
          <a:xfrm>
            <a:off x="2286000" y="3917880"/>
            <a:ext cx="593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Text Box 13"/>
          <p:cNvSpPr/>
          <p:nvPr/>
        </p:nvSpPr>
        <p:spPr>
          <a:xfrm>
            <a:off x="2666880" y="3914640"/>
            <a:ext cx="5940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Text Box 14"/>
          <p:cNvSpPr/>
          <p:nvPr/>
        </p:nvSpPr>
        <p:spPr>
          <a:xfrm>
            <a:off x="2149560" y="4451400"/>
            <a:ext cx="59364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 Box 15"/>
          <p:cNvSpPr/>
          <p:nvPr/>
        </p:nvSpPr>
        <p:spPr>
          <a:xfrm>
            <a:off x="2590920" y="4448160"/>
            <a:ext cx="593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Text Box 16"/>
          <p:cNvSpPr/>
          <p:nvPr/>
        </p:nvSpPr>
        <p:spPr>
          <a:xfrm>
            <a:off x="2057400" y="4905360"/>
            <a:ext cx="5922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Text Box 17"/>
          <p:cNvSpPr/>
          <p:nvPr/>
        </p:nvSpPr>
        <p:spPr>
          <a:xfrm>
            <a:off x="2454120" y="4905360"/>
            <a:ext cx="5940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Line 18"/>
          <p:cNvSpPr/>
          <p:nvPr/>
        </p:nvSpPr>
        <p:spPr>
          <a:xfrm>
            <a:off x="990720" y="4829040"/>
            <a:ext cx="312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Text Box 20"/>
          <p:cNvSpPr/>
          <p:nvPr/>
        </p:nvSpPr>
        <p:spPr>
          <a:xfrm>
            <a:off x="2896920" y="2546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40059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Text Box 21"/>
          <p:cNvSpPr/>
          <p:nvPr/>
        </p:nvSpPr>
        <p:spPr>
          <a:xfrm>
            <a:off x="5334120" y="2879640"/>
            <a:ext cx="3124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0066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cc0066"/>
                </a:solidFill>
                <a:latin typeface="Arial"/>
              </a:rPr>
              <a:t>= </a:t>
            </a:r>
            <a:r>
              <a:rPr b="0" lang="en-US" sz="4000" spc="-1" strike="noStrike">
                <a:solidFill>
                  <a:srgbClr val="cc0066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cc0066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2 = </a:t>
            </a:r>
            <a:r>
              <a:rPr b="0" lang="en-US" sz="4000" spc="-1" strike="noStrike">
                <a:solidFill>
                  <a:srgbClr val="009900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 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5 = </a:t>
            </a:r>
            <a:r>
              <a:rPr b="0" lang="en-US" sz="40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66ff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ff"/>
                </a:solidFill>
                <a:latin typeface="Arial"/>
              </a:rPr>
              <a:t>6 = </a:t>
            </a:r>
            <a:r>
              <a:rPr b="0" lang="en-US" sz="4000" spc="-1" strike="noStrike">
                <a:solidFill>
                  <a:srgbClr val="3366ff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3366ff"/>
                </a:solidFill>
                <a:latin typeface="Arial"/>
              </a:rPr>
              <a:t> 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Rectangle 2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d the measures of the missing angl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2" name="AutoShape 4"/>
          <p:cNvSpPr/>
          <p:nvPr/>
        </p:nvSpPr>
        <p:spPr>
          <a:xfrm>
            <a:off x="2590920" y="2847960"/>
            <a:ext cx="320040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Line 5"/>
          <p:cNvSpPr/>
          <p:nvPr/>
        </p:nvSpPr>
        <p:spPr>
          <a:xfrm flipH="1">
            <a:off x="4012920" y="2847960"/>
            <a:ext cx="639720" cy="3171960"/>
          </a:xfrm>
          <a:prstGeom prst="line">
            <a:avLst/>
          </a:prstGeom>
          <a:ln w="38160">
            <a:solidFill>
              <a:srgbClr val="e4005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Line 6"/>
          <p:cNvSpPr/>
          <p:nvPr/>
        </p:nvSpPr>
        <p:spPr>
          <a:xfrm>
            <a:off x="2666880" y="3914640"/>
            <a:ext cx="3124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7"/>
          <p:cNvSpPr/>
          <p:nvPr/>
        </p:nvSpPr>
        <p:spPr>
          <a:xfrm>
            <a:off x="3733920" y="3459240"/>
            <a:ext cx="99036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125 </a:t>
            </a:r>
            <a:r>
              <a:rPr b="1" lang="en-US" sz="1800" spc="-1" strike="noStrike">
                <a:solidFill>
                  <a:srgbClr val="cc0066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 Box 8"/>
          <p:cNvSpPr/>
          <p:nvPr/>
        </p:nvSpPr>
        <p:spPr>
          <a:xfrm>
            <a:off x="4524480" y="3459240"/>
            <a:ext cx="5922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 Box 9"/>
          <p:cNvSpPr/>
          <p:nvPr/>
        </p:nvSpPr>
        <p:spPr>
          <a:xfrm>
            <a:off x="4038480" y="3917880"/>
            <a:ext cx="5940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10"/>
          <p:cNvSpPr/>
          <p:nvPr/>
        </p:nvSpPr>
        <p:spPr>
          <a:xfrm>
            <a:off x="4419720" y="3914640"/>
            <a:ext cx="593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 Box 11"/>
          <p:cNvSpPr/>
          <p:nvPr/>
        </p:nvSpPr>
        <p:spPr>
          <a:xfrm>
            <a:off x="3902040" y="4451400"/>
            <a:ext cx="59364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 Box 12"/>
          <p:cNvSpPr/>
          <p:nvPr/>
        </p:nvSpPr>
        <p:spPr>
          <a:xfrm>
            <a:off x="4343400" y="4448160"/>
            <a:ext cx="593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Text Box 13"/>
          <p:cNvSpPr/>
          <p:nvPr/>
        </p:nvSpPr>
        <p:spPr>
          <a:xfrm>
            <a:off x="3581280" y="4905360"/>
            <a:ext cx="74448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55 </a:t>
            </a:r>
            <a:r>
              <a:rPr b="1" lang="en-US" sz="1800" spc="-1" strike="noStrike">
                <a:solidFill>
                  <a:srgbClr val="3366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 Box 14"/>
          <p:cNvSpPr/>
          <p:nvPr/>
        </p:nvSpPr>
        <p:spPr>
          <a:xfrm>
            <a:off x="4206960" y="4905360"/>
            <a:ext cx="593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Line 15"/>
          <p:cNvSpPr/>
          <p:nvPr/>
        </p:nvSpPr>
        <p:spPr>
          <a:xfrm>
            <a:off x="2743200" y="4829040"/>
            <a:ext cx="312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 Box 16"/>
          <p:cNvSpPr/>
          <p:nvPr/>
        </p:nvSpPr>
        <p:spPr>
          <a:xfrm>
            <a:off x="4649400" y="2546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40059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Text Box 18"/>
          <p:cNvSpPr/>
          <p:nvPr/>
        </p:nvSpPr>
        <p:spPr>
          <a:xfrm>
            <a:off x="4343400" y="4422600"/>
            <a:ext cx="74448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55 </a:t>
            </a:r>
            <a:r>
              <a:rPr b="1" lang="en-US" sz="1800" spc="-1" strike="noStrike">
                <a:solidFill>
                  <a:srgbClr val="3366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Text Box 19"/>
          <p:cNvSpPr/>
          <p:nvPr/>
        </p:nvSpPr>
        <p:spPr>
          <a:xfrm>
            <a:off x="4343400" y="4010040"/>
            <a:ext cx="9907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125 </a:t>
            </a:r>
            <a:r>
              <a:rPr b="1" lang="en-US" sz="1800" spc="-1" strike="noStrike">
                <a:solidFill>
                  <a:srgbClr val="cc0066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9" dur="50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1" dur="50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8T11:27:43Z</dcterms:created>
  <dc:creator>Patel</dc:creator>
  <dc:description/>
  <dc:language>en-US</dc:language>
  <cp:lastModifiedBy>RomaK</cp:lastModifiedBy>
  <dcterms:modified xsi:type="dcterms:W3CDTF">2015-09-04T07:42:43Z</dcterms:modified>
  <cp:revision>76</cp:revision>
  <dc:subject/>
  <dc:title>CHAPTER 3</dc:title>
</cp:coreProperties>
</file>